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13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48E7-DBA3-4A5B-A199-0B9342EFA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1B9E-E102-4D47-89A7-419B689D2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A75-CA5C-48C4-B619-9A531FFA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04C7-BBEE-4444-B690-149C6E74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495A-2D17-414E-8F71-C45B85F2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C0B-F556-48D8-A4A5-A038B406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4221-FA7A-4B14-8A60-352FD597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BD23-A9C6-4199-A6D4-8C0E41AC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7E93-6621-4315-B803-D1204870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99D2-164F-484A-8CA6-7154249F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3726-90F0-4F20-8491-30F0EAB7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0ABD-F95E-4135-9B91-2FBCF2C9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2E6D-868E-49E2-93DD-D9C321D7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A968-8C8F-4864-9E23-8EAA5285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A4E0-603A-4F78-A7AF-CA2881A6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8F18-098B-4CBC-83DE-A5EE4430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3DC5-043C-4AA8-95AB-3C5245E8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9023-EA5A-4ADD-A8B6-D4F92A51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C2F4-D607-4098-9583-54DE3848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2671C-21A9-4C3C-99A3-8D6C5EB4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7C059-71D5-4AA2-BC40-8913334D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1613D-39F4-4D39-A3A6-E597471E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4A85E-9610-4F1B-816B-39924A60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BEB52-206F-4077-8D87-C2AABC42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6EB6-1C52-420C-A046-F97DB0B3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65EA6-E918-4E2D-AC16-CD010DCA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0CAD6-EF80-40D5-87C9-AF3D8511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30892-DB62-430E-874D-15105DDD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8D850-C065-4924-871E-688AA6AF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32405-BAAD-4426-A58F-1D9EBEE0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181E2-134E-4540-8A10-B85B01C1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6665C-3A52-40AB-8C2D-36543880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03109-F1E3-49EF-9103-CDA23FF5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DC4EB-4073-45B8-88D8-6FA06A1A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40E47-1E46-4F5A-A0AD-AEED36CC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EF4E-11AA-408A-9169-603CA18D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787C5-3D09-466C-8CF8-61715BDD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179EA-7E6C-4224-879E-AFCB721A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24E0E-0C93-4A3F-9716-35C181EB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CC49A-70AE-4632-817F-A1C7DC9B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83D6B-139C-4372-80D8-61881D2D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18C15-7F62-4D74-ACA5-4B099C4D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012E9-4B70-48C0-90F3-76B5EFEB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83DC2-5F39-40CC-9A5F-B979BB3B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E4A60-7B76-4982-84CF-96529D65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7C5-EF3A-4834-8FAB-AE76B792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D88-1793-416D-8045-55D25C96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FB7-34E8-4169-BED3-5417F8AD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BE3-DC31-4089-95C6-B5C39273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F929-3E5D-4D07-8A1F-95BBB4CD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40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4060-4518-4795-8BAC-DB82910BDE55}" type="slidenum">
              <a:rPr b="0" lang="en-US" sz="1200" spc="-1" strike="noStrike">
                <a:solidFill>
                  <a:srgbClr val="3f40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d4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408D-CA05-4EB9-98D0-151E189774EA}" type="slidenum">
              <a:rPr b="0" lang="en-US" sz="1200" spc="-1" strike="noStrike">
                <a:solidFill>
                  <a:srgbClr val="d4d4d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d4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3C58-F594-49A6-BFAF-B2D8623B68A4}" type="slidenum">
              <a:rPr b="0" lang="en-US" sz="1200" spc="-1" strike="noStrike">
                <a:solidFill>
                  <a:srgbClr val="d4d4d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40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62F8-6BBE-4C23-AA0D-3894ACEDF5AC}" type="slidenum">
              <a:rPr b="0" lang="en-US" sz="1200" spc="-1" strike="noStrike">
                <a:solidFill>
                  <a:srgbClr val="3f40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interactivemedia/activityshared/ActivityLoader.html?cmr3e&amp;11&amp;01&amp;11B%20Gene%20Regulation%20in%20Eukaryotes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essentials_3/discvids/_html/index.htm?info_text=cc5_clonin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Control of Gene Express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fferent types of cell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ake different proteins because different combinations of genes are active in each typ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1"/>
          <p:cNvGrpSpPr/>
          <p:nvPr/>
        </p:nvGrpSpPr>
        <p:grpSpPr>
          <a:xfrm>
            <a:off x="403200" y="2932200"/>
            <a:ext cx="8361360" cy="3511080"/>
            <a:chOff x="403200" y="2932200"/>
            <a:chExt cx="8361360" cy="3511080"/>
          </a:xfrm>
        </p:grpSpPr>
        <p:grpSp>
          <p:nvGrpSpPr>
            <p:cNvPr id="279" name="Group 5"/>
            <p:cNvGrpSpPr/>
            <p:nvPr/>
          </p:nvGrpSpPr>
          <p:grpSpPr>
            <a:xfrm>
              <a:off x="1181160" y="2932200"/>
              <a:ext cx="7583400" cy="3511080"/>
              <a:chOff x="1181160" y="2932200"/>
              <a:chExt cx="7583400" cy="3511080"/>
            </a:xfrm>
          </p:grpSpPr>
          <p:pic>
            <p:nvPicPr>
              <p:cNvPr id="280" name="Picture 6" descr="_x000b_11_02_U.jpg                                                    00019A29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1181160" y="2932200"/>
                <a:ext cx="7583400" cy="334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Text Box 7"/>
              <p:cNvSpPr/>
              <p:nvPr/>
            </p:nvSpPr>
            <p:spPr>
              <a:xfrm>
                <a:off x="1453320" y="6136200"/>
                <a:ext cx="215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uscle cel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8"/>
              <p:cNvSpPr/>
              <p:nvPr/>
            </p:nvSpPr>
            <p:spPr>
              <a:xfrm>
                <a:off x="3904560" y="6136200"/>
                <a:ext cx="213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ancreas cel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9"/>
              <p:cNvSpPr/>
              <p:nvPr/>
            </p:nvSpPr>
            <p:spPr>
              <a:xfrm>
                <a:off x="6318720" y="6136200"/>
                <a:ext cx="218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lood cel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Text Box 10"/>
            <p:cNvSpPr/>
            <p:nvPr/>
          </p:nvSpPr>
          <p:spPr>
            <a:xfrm>
              <a:off x="403200" y="613872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10404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242720" y="790560"/>
            <a:ext cx="744372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a nerve cell and a skin cell in your body have the same genes, how can the cells be so differen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771480" y="447840"/>
            <a:ext cx="8067600" cy="27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3 Differentiated cells may retain all of their genetic potent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8764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differentiated 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560240" indent="-45828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Retain a complete set of gen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560240" indent="-45828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ut only a small % of those genes are express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87640">
              <a:spcBef>
                <a:spcPts val="4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onstantia"/>
              </a:rPr>
              <a:t>How is it that when they transferred cells from a carrot to culture medium, a single cell could begin dividing and eventually grow into an adult plant, a genetic replication of the parent plant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87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7"/>
          <p:cNvGrpSpPr/>
          <p:nvPr/>
        </p:nvGrpSpPr>
        <p:grpSpPr>
          <a:xfrm>
            <a:off x="2229840" y="3467160"/>
            <a:ext cx="4847040" cy="2877840"/>
            <a:chOff x="2229840" y="3467160"/>
            <a:chExt cx="4847040" cy="2877840"/>
          </a:xfrm>
        </p:grpSpPr>
        <p:grpSp>
          <p:nvGrpSpPr>
            <p:cNvPr id="290" name="Group 15"/>
            <p:cNvGrpSpPr/>
            <p:nvPr/>
          </p:nvGrpSpPr>
          <p:grpSpPr>
            <a:xfrm>
              <a:off x="3301200" y="3467160"/>
              <a:ext cx="3775680" cy="2871720"/>
              <a:chOff x="3301200" y="3467160"/>
              <a:chExt cx="3775680" cy="2871720"/>
            </a:xfrm>
          </p:grpSpPr>
          <p:pic>
            <p:nvPicPr>
              <p:cNvPr id="291" name="Picture 6" descr="_x000b_11_03_U.jpg                                                    00019A44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3301200" y="3467160"/>
                <a:ext cx="3775680" cy="260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Text Box 7"/>
              <p:cNvSpPr/>
              <p:nvPr/>
            </p:nvSpPr>
            <p:spPr>
              <a:xfrm>
                <a:off x="3585240" y="4203000"/>
                <a:ext cx="691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oot of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arrot pla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8"/>
              <p:cNvSpPr/>
              <p:nvPr/>
            </p:nvSpPr>
            <p:spPr>
              <a:xfrm flipH="1">
                <a:off x="3701160" y="4497120"/>
                <a:ext cx="190080" cy="29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9"/>
              <p:cNvSpPr/>
              <p:nvPr/>
            </p:nvSpPr>
            <p:spPr>
              <a:xfrm>
                <a:off x="3573720" y="6001560"/>
                <a:ext cx="1022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oot cells cultured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 nutrient mediu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10"/>
              <p:cNvSpPr/>
              <p:nvPr/>
            </p:nvSpPr>
            <p:spPr>
              <a:xfrm>
                <a:off x="4672080" y="6001560"/>
                <a:ext cx="72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ell divisio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 cultu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11"/>
              <p:cNvSpPr/>
              <p:nvPr/>
            </p:nvSpPr>
            <p:spPr>
              <a:xfrm>
                <a:off x="5551560" y="6120000"/>
                <a:ext cx="522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lantl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12"/>
              <p:cNvSpPr/>
              <p:nvPr/>
            </p:nvSpPr>
            <p:spPr>
              <a:xfrm>
                <a:off x="6174720" y="6121800"/>
                <a:ext cx="67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dult Pla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13"/>
              <p:cNvSpPr/>
              <p:nvPr/>
            </p:nvSpPr>
            <p:spPr>
              <a:xfrm>
                <a:off x="4654440" y="4905000"/>
                <a:ext cx="646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ngle cel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14"/>
              <p:cNvSpPr/>
              <p:nvPr/>
            </p:nvSpPr>
            <p:spPr>
              <a:xfrm flipH="1">
                <a:off x="4641480" y="5081040"/>
                <a:ext cx="98640" cy="186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 Box 16"/>
            <p:cNvSpPr/>
            <p:nvPr/>
          </p:nvSpPr>
          <p:spPr>
            <a:xfrm>
              <a:off x="2229840" y="606852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942480" y="1934640"/>
            <a:ext cx="7743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act that a mature plant cell can dedifferentiate (reverse its differentiation) and then give rise to all the different kinds of specialized cells of a new plant shows that differentiation does not necessarily involve irreversible changes in the DN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Example: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Regenera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546120" indent="-273240">
              <a:spcBef>
                <a:spcPts val="524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e regrowth of lost body part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819000" indent="-272880">
              <a:spcBef>
                <a:spcPts val="49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en a salamander loses a leg, for example, certain cells in the leg stump </a:t>
            </a:r>
            <a:r>
              <a:rPr b="1" i="1" lang="en-US" sz="2000" spc="-1" strike="noStrike">
                <a:solidFill>
                  <a:srgbClr val="7030a0"/>
                </a:solidFill>
                <a:latin typeface="Constantia"/>
              </a:rPr>
              <a:t>dedifferentiat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divide, and then </a:t>
            </a:r>
            <a:r>
              <a:rPr b="1" i="1" lang="en-US" sz="2000" spc="-1" strike="noStrike">
                <a:solidFill>
                  <a:srgbClr val="7030a0"/>
                </a:solidFill>
                <a:latin typeface="Constantia"/>
              </a:rPr>
              <a:t>redifferentiat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giving rise to a new leg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animals can regenerate lost parts, especially among the invertebrates, and in a few relatively simple animals, isolated differentiated cells can dedifferentiate and then develop into an organism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04920" y="685440"/>
            <a:ext cx="853416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1.4 DNA packing in eukaryotic chromosomes helps regulate gene express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chromosome contains D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und around clusters of histone proteins, forming a string of beadlike nucleoso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47"/>
          <p:cNvGrpSpPr/>
          <p:nvPr/>
        </p:nvGrpSpPr>
        <p:grpSpPr>
          <a:xfrm>
            <a:off x="2409840" y="3456000"/>
            <a:ext cx="3207240" cy="2988000"/>
            <a:chOff x="2409840" y="3456000"/>
            <a:chExt cx="3207240" cy="2988000"/>
          </a:xfrm>
        </p:grpSpPr>
        <p:grpSp>
          <p:nvGrpSpPr>
            <p:cNvPr id="308" name="Group 45"/>
            <p:cNvGrpSpPr/>
            <p:nvPr/>
          </p:nvGrpSpPr>
          <p:grpSpPr>
            <a:xfrm>
              <a:off x="3450960" y="3456000"/>
              <a:ext cx="2166120" cy="2969280"/>
              <a:chOff x="3450960" y="3456000"/>
              <a:chExt cx="2166120" cy="2969280"/>
            </a:xfrm>
          </p:grpSpPr>
          <p:pic>
            <p:nvPicPr>
              <p:cNvPr id="309" name="Picture 23" descr="_x000b_11_04_U.jpg                                                    00019A44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3554280" y="3456000"/>
                <a:ext cx="1924200" cy="289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Text Box 24"/>
              <p:cNvSpPr/>
              <p:nvPr/>
            </p:nvSpPr>
            <p:spPr>
              <a:xfrm>
                <a:off x="3689280" y="3521160"/>
                <a:ext cx="6652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NA double</a:t>
                </a:r>
                <a:br>
                  <a:rPr sz="700"/>
                </a:b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elix (2-nm</a:t>
                </a:r>
                <a:br>
                  <a:rPr sz="700"/>
                </a:b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iameter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AutoShape 25"/>
              <p:cNvSpPr/>
              <p:nvPr/>
            </p:nvSpPr>
            <p:spPr>
              <a:xfrm>
                <a:off x="4284720" y="3560760"/>
                <a:ext cx="52200" cy="322200"/>
              </a:xfrm>
              <a:custGeom>
                <a:avLst/>
                <a:gdLst>
                  <a:gd name="textAreaLeft" fmla="*/ 33480 w 52200"/>
                  <a:gd name="textAreaRight" fmla="*/ 52560 w 52200"/>
                  <a:gd name="textAreaTop" fmla="*/ 3240 h 322200"/>
                  <a:gd name="textAreaBottom" fmla="*/ 318960 h 322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385"/>
                      <a:pt x="10800" y="770"/>
                    </a:cubicBezTo>
                    <a:lnTo>
                      <a:pt x="10800" y="10188"/>
                    </a:lnTo>
                    <a:cubicBezTo>
                      <a:pt x="10800" y="10573"/>
                      <a:pt x="5400" y="10958"/>
                      <a:pt x="0" y="10958"/>
                    </a:cubicBezTo>
                    <a:cubicBezTo>
                      <a:pt x="5400" y="10958"/>
                      <a:pt x="10800" y="11343"/>
                      <a:pt x="10800" y="11728"/>
                    </a:cubicBezTo>
                    <a:lnTo>
                      <a:pt x="10800" y="20830"/>
                    </a:lnTo>
                    <a:cubicBezTo>
                      <a:pt x="10800" y="21215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 Box 26"/>
              <p:cNvSpPr/>
              <p:nvPr/>
            </p:nvSpPr>
            <p:spPr>
              <a:xfrm>
                <a:off x="4436280" y="3935520"/>
                <a:ext cx="523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istone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27"/>
              <p:cNvSpPr/>
              <p:nvPr/>
            </p:nvSpPr>
            <p:spPr>
              <a:xfrm>
                <a:off x="4664160" y="4102200"/>
                <a:ext cx="264960" cy="12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28"/>
              <p:cNvSpPr/>
              <p:nvPr/>
            </p:nvSpPr>
            <p:spPr>
              <a:xfrm>
                <a:off x="4667400" y="4106880"/>
                <a:ext cx="69840" cy="206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29"/>
              <p:cNvSpPr/>
              <p:nvPr/>
            </p:nvSpPr>
            <p:spPr>
              <a:xfrm>
                <a:off x="3762360" y="4213080"/>
                <a:ext cx="614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 Box 30"/>
              <p:cNvSpPr/>
              <p:nvPr/>
            </p:nvSpPr>
            <p:spPr>
              <a:xfrm>
                <a:off x="4344480" y="4162320"/>
                <a:ext cx="420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inke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31"/>
              <p:cNvSpPr/>
              <p:nvPr/>
            </p:nvSpPr>
            <p:spPr>
              <a:xfrm>
                <a:off x="4543560" y="4317840"/>
                <a:ext cx="0" cy="219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Text Box 32"/>
              <p:cNvSpPr/>
              <p:nvPr/>
            </p:nvSpPr>
            <p:spPr>
              <a:xfrm>
                <a:off x="3862800" y="4172040"/>
                <a:ext cx="581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eads on</a:t>
                </a:r>
                <a:br>
                  <a:rPr sz="700"/>
                </a:b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 string”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AutoShape 33"/>
              <p:cNvSpPr/>
              <p:nvPr/>
            </p:nvSpPr>
            <p:spPr>
              <a:xfrm rot="3793800">
                <a:off x="4547880" y="4623840"/>
                <a:ext cx="65160" cy="157320"/>
              </a:xfrm>
              <a:custGeom>
                <a:avLst/>
                <a:gdLst>
                  <a:gd name="textAreaLeft" fmla="*/ 0 w 65160"/>
                  <a:gd name="textAreaRight" fmla="*/ 23400 w 65160"/>
                  <a:gd name="textAreaTop" fmla="*/ 4320 h 157320"/>
                  <a:gd name="textAreaBottom" fmla="*/ 153000 h 157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73"/>
                      <a:pt x="10800" y="1946"/>
                    </a:cubicBezTo>
                    <a:lnTo>
                      <a:pt x="10800" y="8854"/>
                    </a:lnTo>
                    <a:cubicBezTo>
                      <a:pt x="10800" y="9827"/>
                      <a:pt x="16200" y="10800"/>
                      <a:pt x="21600" y="10800"/>
                    </a:cubicBezTo>
                    <a:cubicBezTo>
                      <a:pt x="16200" y="10800"/>
                      <a:pt x="10800" y="11773"/>
                      <a:pt x="10800" y="12746"/>
                    </a:cubicBezTo>
                    <a:lnTo>
                      <a:pt x="10800" y="19654"/>
                    </a:lnTo>
                    <a:cubicBezTo>
                      <a:pt x="10800" y="20627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 Box 34"/>
              <p:cNvSpPr/>
              <p:nvPr/>
            </p:nvSpPr>
            <p:spPr>
              <a:xfrm>
                <a:off x="4546440" y="4675320"/>
                <a:ext cx="852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ucleosome</a:t>
                </a:r>
                <a:br>
                  <a:rPr sz="700"/>
                </a:b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10-nm diameter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 Box 35"/>
              <p:cNvSpPr/>
              <p:nvPr/>
            </p:nvSpPr>
            <p:spPr>
              <a:xfrm>
                <a:off x="3450960" y="5446800"/>
                <a:ext cx="852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ight helical fiber</a:t>
                </a:r>
                <a:br>
                  <a:rPr sz="700"/>
                </a:b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30-nm diameter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36"/>
              <p:cNvSpPr/>
              <p:nvPr/>
            </p:nvSpPr>
            <p:spPr>
              <a:xfrm flipH="1">
                <a:off x="4049640" y="5396040"/>
                <a:ext cx="279360" cy="7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37"/>
              <p:cNvSpPr/>
              <p:nvPr/>
            </p:nvSpPr>
            <p:spPr>
              <a:xfrm>
                <a:off x="4262400" y="5448240"/>
                <a:ext cx="901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upercoi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300-nm diameter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38"/>
              <p:cNvSpPr/>
              <p:nvPr/>
            </p:nvSpPr>
            <p:spPr>
              <a:xfrm flipH="1">
                <a:off x="4572000" y="5398920"/>
                <a:ext cx="401760" cy="8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39"/>
              <p:cNvSpPr/>
              <p:nvPr/>
            </p:nvSpPr>
            <p:spPr>
              <a:xfrm>
                <a:off x="4032720" y="6224760"/>
                <a:ext cx="1146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etaphase chromosom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40"/>
              <p:cNvSpPr/>
              <p:nvPr/>
            </p:nvSpPr>
            <p:spPr>
              <a:xfrm>
                <a:off x="5272200" y="6064200"/>
                <a:ext cx="90360" cy="163440"/>
              </a:xfrm>
              <a:custGeom>
                <a:avLst/>
                <a:gdLst>
                  <a:gd name="textAreaLeft" fmla="*/ 0 w 90360"/>
                  <a:gd name="textAreaRight" fmla="*/ 32760 w 90360"/>
                  <a:gd name="textAreaTop" fmla="*/ 3960 h 163440"/>
                  <a:gd name="textAreaBottom" fmla="*/ 159480 h 16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41"/>
              <p:cNvSpPr/>
              <p:nvPr/>
            </p:nvSpPr>
            <p:spPr>
              <a:xfrm>
                <a:off x="5290200" y="5989680"/>
                <a:ext cx="32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0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42"/>
              <p:cNvSpPr/>
              <p:nvPr/>
            </p:nvSpPr>
            <p:spPr>
              <a:xfrm>
                <a:off x="3768840" y="4432320"/>
                <a:ext cx="738000" cy="201600"/>
              </a:xfrm>
              <a:custGeom>
                <a:avLst/>
                <a:gdLst>
                  <a:gd name="textAreaLeft" fmla="*/ 0 w 738000"/>
                  <a:gd name="textAreaRight" fmla="*/ 738360 w 73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68" h="256">
                    <a:moveTo>
                      <a:pt x="768" y="256"/>
                    </a:moveTo>
                    <a:lnTo>
                      <a:pt x="390" y="0"/>
                    </a:lnTo>
                    <a:lnTo>
                      <a:pt x="0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43"/>
              <p:cNvSpPr/>
              <p:nvPr/>
            </p:nvSpPr>
            <p:spPr>
              <a:xfrm rot="16200000">
                <a:off x="3433320" y="4525560"/>
                <a:ext cx="366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E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 Box 44"/>
              <p:cNvSpPr/>
              <p:nvPr/>
            </p:nvSpPr>
            <p:spPr>
              <a:xfrm rot="16200000">
                <a:off x="3714120" y="6052680"/>
                <a:ext cx="366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E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 Box 46"/>
            <p:cNvSpPr/>
            <p:nvPr/>
          </p:nvSpPr>
          <p:spPr>
            <a:xfrm>
              <a:off x="2409840" y="616752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04920" y="685800"/>
            <a:ext cx="853416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543600" indent="-2844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844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beaded fib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542240" indent="-45288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s further wound and folde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844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NA packing tends to block gene expre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542240" indent="-45288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resumably by preventing access of transcription proteins to the DN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542240" indent="-45288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844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b Activity: </a:t>
            </a:r>
            <a:r>
              <a:rPr b="0" lang="en-US" sz="2400" spc="-1" strike="noStrike" u="sng">
                <a:solidFill>
                  <a:srgbClr val="67afbd"/>
                </a:solidFill>
                <a:uFillTx/>
                <a:latin typeface="Constantia"/>
                <a:hlinkClick r:id="rId1"/>
              </a:rPr>
              <a:t>http://media.pearsoncmg.com/bc/bc_campbell_concepts_5/media/assets/interactivemedia/activityshared/ActivityLoader.html?cmr3e&amp;11&amp;01&amp;11B%20Gene%20Regulation%20in%20Eukary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844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542240" indent="-45288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920" y="685800"/>
            <a:ext cx="853416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1.5 In female mammals, one X chromosome is inactive in each cel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extreme example of DNA packing in interphase cell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 X chromosome inactivation in the cells of female mamm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25"/>
          <p:cNvGrpSpPr/>
          <p:nvPr/>
        </p:nvGrpSpPr>
        <p:grpSpPr>
          <a:xfrm>
            <a:off x="1064160" y="3776760"/>
            <a:ext cx="6846480" cy="2743200"/>
            <a:chOff x="1064160" y="3776760"/>
            <a:chExt cx="6846480" cy="2743200"/>
          </a:xfrm>
        </p:grpSpPr>
        <p:grpSp>
          <p:nvGrpSpPr>
            <p:cNvPr id="337" name="Group 24"/>
            <p:cNvGrpSpPr/>
            <p:nvPr/>
          </p:nvGrpSpPr>
          <p:grpSpPr>
            <a:xfrm>
              <a:off x="2061000" y="3776760"/>
              <a:ext cx="5849640" cy="2743200"/>
              <a:chOff x="2061000" y="3776760"/>
              <a:chExt cx="5849640" cy="2743200"/>
            </a:xfrm>
          </p:grpSpPr>
          <p:pic>
            <p:nvPicPr>
              <p:cNvPr id="338" name="Picture 5" descr="_x000b_11_05_U.jpg                                                    00019A44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2061000" y="3776760"/>
                <a:ext cx="5849640" cy="27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Text Box 6"/>
              <p:cNvSpPr/>
              <p:nvPr/>
            </p:nvSpPr>
            <p:spPr>
              <a:xfrm>
                <a:off x="2232360" y="3992400"/>
                <a:ext cx="828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Early embry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7"/>
              <p:cNvSpPr/>
              <p:nvPr/>
            </p:nvSpPr>
            <p:spPr>
              <a:xfrm>
                <a:off x="2216520" y="4878360"/>
                <a:ext cx="99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 chromosom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8"/>
              <p:cNvSpPr/>
              <p:nvPr/>
            </p:nvSpPr>
            <p:spPr>
              <a:xfrm>
                <a:off x="2283120" y="5832360"/>
                <a:ext cx="64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llele for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range fu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9"/>
              <p:cNvSpPr/>
              <p:nvPr/>
            </p:nvSpPr>
            <p:spPr>
              <a:xfrm>
                <a:off x="2733480" y="6075360"/>
                <a:ext cx="57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llele for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lack fu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10"/>
              <p:cNvSpPr/>
              <p:nvPr/>
            </p:nvSpPr>
            <p:spPr>
              <a:xfrm flipH="1">
                <a:off x="2517840" y="5343480"/>
                <a:ext cx="32364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11"/>
              <p:cNvSpPr/>
              <p:nvPr/>
            </p:nvSpPr>
            <p:spPr>
              <a:xfrm>
                <a:off x="2841840" y="5524560"/>
                <a:ext cx="111240" cy="538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12"/>
              <p:cNvSpPr/>
              <p:nvPr/>
            </p:nvSpPr>
            <p:spPr>
              <a:xfrm>
                <a:off x="3333240" y="4416480"/>
                <a:ext cx="867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ell divisio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nd random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 chromosome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activ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13"/>
              <p:cNvSpPr/>
              <p:nvPr/>
            </p:nvSpPr>
            <p:spPr>
              <a:xfrm>
                <a:off x="4550040" y="3990960"/>
                <a:ext cx="119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Two cell populations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n adul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4"/>
              <p:cNvSpPr/>
              <p:nvPr/>
            </p:nvSpPr>
            <p:spPr>
              <a:xfrm>
                <a:off x="4327920" y="4851360"/>
                <a:ext cx="558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ctive 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15"/>
              <p:cNvSpPr/>
              <p:nvPr/>
            </p:nvSpPr>
            <p:spPr>
              <a:xfrm>
                <a:off x="4262040" y="5024520"/>
                <a:ext cx="631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active 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16"/>
              <p:cNvSpPr/>
              <p:nvPr/>
            </p:nvSpPr>
            <p:spPr>
              <a:xfrm>
                <a:off x="4262040" y="5729400"/>
                <a:ext cx="631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active 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7"/>
              <p:cNvSpPr/>
              <p:nvPr/>
            </p:nvSpPr>
            <p:spPr>
              <a:xfrm>
                <a:off x="4307040" y="5913360"/>
                <a:ext cx="558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ctive 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8"/>
              <p:cNvSpPr/>
              <p:nvPr/>
            </p:nvSpPr>
            <p:spPr>
              <a:xfrm>
                <a:off x="5480280" y="47736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range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u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5477400" y="5830920"/>
                <a:ext cx="579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lack fu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20"/>
            <p:cNvSpPr/>
            <p:nvPr/>
          </p:nvSpPr>
          <p:spPr>
            <a:xfrm>
              <a:off x="1064160" y="616428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6 Complex assemblies of proteins control eukaryotic transcrip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variety of regulatory proteins interact with DNA and with each oth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turn the transcription of eukaryotic genes on or off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Transcription Fac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cription fa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ssist in initiating eukaryotic transcrip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23"/>
          <p:cNvGrpSpPr/>
          <p:nvPr/>
        </p:nvGrpSpPr>
        <p:grpSpPr>
          <a:xfrm>
            <a:off x="2346480" y="2803680"/>
            <a:ext cx="4291920" cy="3635280"/>
            <a:chOff x="2346480" y="2803680"/>
            <a:chExt cx="4291920" cy="3635280"/>
          </a:xfrm>
        </p:grpSpPr>
        <p:grpSp>
          <p:nvGrpSpPr>
            <p:cNvPr id="359" name="Group 21"/>
            <p:cNvGrpSpPr/>
            <p:nvPr/>
          </p:nvGrpSpPr>
          <p:grpSpPr>
            <a:xfrm>
              <a:off x="3260520" y="2803680"/>
              <a:ext cx="3377880" cy="3635280"/>
              <a:chOff x="3260520" y="2803680"/>
              <a:chExt cx="3377880" cy="3635280"/>
            </a:xfrm>
          </p:grpSpPr>
          <p:pic>
            <p:nvPicPr>
              <p:cNvPr id="360" name="Picture 5" descr="_x000b_11_06_U.jpg                                                    00019A44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3260520" y="3129120"/>
                <a:ext cx="3377880" cy="330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61" name="Group 20"/>
              <p:cNvGrpSpPr/>
              <p:nvPr/>
            </p:nvGrpSpPr>
            <p:grpSpPr>
              <a:xfrm>
                <a:off x="3292920" y="2803680"/>
                <a:ext cx="3144960" cy="3560400"/>
                <a:chOff x="3292920" y="2803680"/>
                <a:chExt cx="3144960" cy="3560400"/>
              </a:xfrm>
            </p:grpSpPr>
            <p:sp>
              <p:nvSpPr>
                <p:cNvPr id="362" name="Text Box 6"/>
                <p:cNvSpPr/>
                <p:nvPr/>
              </p:nvSpPr>
              <p:spPr>
                <a:xfrm>
                  <a:off x="3600000" y="2803680"/>
                  <a:ext cx="668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Enhancer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Text Box 7"/>
                <p:cNvSpPr/>
                <p:nvPr/>
              </p:nvSpPr>
              <p:spPr>
                <a:xfrm>
                  <a:off x="5416920" y="2832120"/>
                  <a:ext cx="5997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romot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8"/>
                <p:cNvSpPr/>
                <p:nvPr/>
              </p:nvSpPr>
              <p:spPr>
                <a:xfrm>
                  <a:off x="5766480" y="3024360"/>
                  <a:ext cx="0" cy="26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Text Box 9"/>
                <p:cNvSpPr/>
                <p:nvPr/>
              </p:nvSpPr>
              <p:spPr>
                <a:xfrm>
                  <a:off x="6008760" y="3071880"/>
                  <a:ext cx="429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en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Text Box 10"/>
                <p:cNvSpPr/>
                <p:nvPr/>
              </p:nvSpPr>
              <p:spPr>
                <a:xfrm>
                  <a:off x="3459240" y="3362400"/>
                  <a:ext cx="395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N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Text Box 11"/>
                <p:cNvSpPr/>
                <p:nvPr/>
              </p:nvSpPr>
              <p:spPr>
                <a:xfrm>
                  <a:off x="4101480" y="3666960"/>
                  <a:ext cx="579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ctivator</a:t>
                  </a:r>
                  <a:br>
                    <a:rPr sz="800"/>
                  </a:b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rotein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12"/>
                <p:cNvSpPr/>
                <p:nvPr/>
              </p:nvSpPr>
              <p:spPr>
                <a:xfrm>
                  <a:off x="4101480" y="4071960"/>
                  <a:ext cx="543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ther</a:t>
                  </a:r>
                  <a:br>
                    <a:rPr sz="800"/>
                  </a:b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rotein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AutoShape 13"/>
                <p:cNvSpPr/>
                <p:nvPr/>
              </p:nvSpPr>
              <p:spPr>
                <a:xfrm>
                  <a:off x="4055040" y="3652920"/>
                  <a:ext cx="77400" cy="733320"/>
                </a:xfrm>
                <a:custGeom>
                  <a:avLst/>
                  <a:gdLst>
                    <a:gd name="textAreaLeft" fmla="*/ 49680 w 77400"/>
                    <a:gd name="textAreaRight" fmla="*/ 77760 w 77400"/>
                    <a:gd name="textAreaTop" fmla="*/ 6480 h 733320"/>
                    <a:gd name="textAreaBottom" fmla="*/ 726840 h 73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314"/>
                        <a:pt x="10800" y="628"/>
                      </a:cubicBezTo>
                      <a:lnTo>
                        <a:pt x="10800" y="10107"/>
                      </a:lnTo>
                      <a:cubicBezTo>
                        <a:pt x="10800" y="10421"/>
                        <a:pt x="5400" y="10735"/>
                        <a:pt x="0" y="10735"/>
                      </a:cubicBezTo>
                      <a:cubicBezTo>
                        <a:pt x="5400" y="10735"/>
                        <a:pt x="10800" y="11049"/>
                        <a:pt x="10800" y="11363"/>
                      </a:cubicBezTo>
                      <a:lnTo>
                        <a:pt x="10800" y="20972"/>
                      </a:lnTo>
                      <a:cubicBezTo>
                        <a:pt x="10800" y="21286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Text Box 14"/>
                <p:cNvSpPr/>
                <p:nvPr/>
              </p:nvSpPr>
              <p:spPr>
                <a:xfrm>
                  <a:off x="3292920" y="3889440"/>
                  <a:ext cx="770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cription</a:t>
                  </a:r>
                  <a:br>
                    <a:rPr sz="800"/>
                  </a:b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factor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Text Box 15"/>
                <p:cNvSpPr/>
                <p:nvPr/>
              </p:nvSpPr>
              <p:spPr>
                <a:xfrm>
                  <a:off x="3940200" y="4606920"/>
                  <a:ext cx="9518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NA polymeras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Text Box 16"/>
                <p:cNvSpPr/>
                <p:nvPr/>
              </p:nvSpPr>
              <p:spPr>
                <a:xfrm>
                  <a:off x="3362760" y="5864400"/>
                  <a:ext cx="554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ending</a:t>
                  </a:r>
                  <a:br>
                    <a:rPr sz="800"/>
                  </a:b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f DN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Text Box 17"/>
                <p:cNvSpPr/>
                <p:nvPr/>
              </p:nvSpPr>
              <p:spPr>
                <a:xfrm>
                  <a:off x="5537520" y="6148440"/>
                  <a:ext cx="770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criptio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18"/>
                <p:cNvSpPr/>
                <p:nvPr/>
              </p:nvSpPr>
              <p:spPr>
                <a:xfrm>
                  <a:off x="3732840" y="2990880"/>
                  <a:ext cx="580680" cy="280800"/>
                </a:xfrm>
                <a:custGeom>
                  <a:avLst/>
                  <a:gdLst>
                    <a:gd name="textAreaLeft" fmla="*/ 0 w 580680"/>
                    <a:gd name="textAreaRight" fmla="*/ 581040 w 580680"/>
                    <a:gd name="textAreaTop" fmla="*/ 0 h 280800"/>
                    <a:gd name="textAreaBottom" fmla="*/ 281160 h 280800"/>
                  </a:gdLst>
                  <a:ahLst/>
                  <a:rect l="textAreaLeft" t="textAreaTop" r="textAreaRight" b="textAreaBottom"/>
                  <a:pathLst>
                    <a:path w="597" h="272">
                      <a:moveTo>
                        <a:pt x="0" y="266"/>
                      </a:moveTo>
                      <a:lnTo>
                        <a:pt x="250" y="0"/>
                      </a:lnTo>
                      <a:lnTo>
                        <a:pt x="597" y="272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5" name="Text Box 22"/>
            <p:cNvSpPr/>
            <p:nvPr/>
          </p:nvSpPr>
          <p:spPr>
            <a:xfrm>
              <a:off x="2346480" y="610092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920" y="685440"/>
            <a:ext cx="8534160" cy="19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814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Clone or Not to Clon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314640">
              <a:spcBef>
                <a:spcPts val="75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clone is an individual created by asexual reprodu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705320" indent="-501120">
              <a:spcBef>
                <a:spcPts val="751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thus is genetically identical to a single par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_x000f_11_UN208a_U.jpg                                                00019A29&#10;Abhinav 11                     BE0A27B8:"/>
          <p:cNvPicPr/>
          <p:nvPr/>
        </p:nvPicPr>
        <p:blipFill>
          <a:blip r:embed="rId1"/>
          <a:stretch/>
        </p:blipFill>
        <p:spPr>
          <a:xfrm>
            <a:off x="522360" y="2905200"/>
            <a:ext cx="4790880" cy="3548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_x000f_11_UN208b_U.jpg                                                00019A29&#10;Abhinav 11                     BE0A27B8:"/>
          <p:cNvPicPr/>
          <p:nvPr/>
        </p:nvPicPr>
        <p:blipFill>
          <a:blip r:embed="rId2"/>
          <a:stretch/>
        </p:blipFill>
        <p:spPr>
          <a:xfrm>
            <a:off x="5857920" y="2882880"/>
            <a:ext cx="269064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Coordinating Eukaryotic Gene Expres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3048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ordinated gene expression in eukary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20880" indent="-53820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ems to depend on the association of enhancers with groups of gen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7 Eukaryotic RNA may be spliced in more than one w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fter transcription, alternative splicin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ay generate two or more types of mRNA from the same transcrip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9"/>
          <p:cNvGrpSpPr/>
          <p:nvPr/>
        </p:nvGrpSpPr>
        <p:grpSpPr>
          <a:xfrm>
            <a:off x="1176480" y="3613320"/>
            <a:ext cx="5675040" cy="2835000"/>
            <a:chOff x="1176480" y="3613320"/>
            <a:chExt cx="5675040" cy="2835000"/>
          </a:xfrm>
        </p:grpSpPr>
        <p:grpSp>
          <p:nvGrpSpPr>
            <p:cNvPr id="381" name="Group 17"/>
            <p:cNvGrpSpPr/>
            <p:nvPr/>
          </p:nvGrpSpPr>
          <p:grpSpPr>
            <a:xfrm>
              <a:off x="2119680" y="3613320"/>
              <a:ext cx="4731840" cy="2835000"/>
              <a:chOff x="2119680" y="3613320"/>
              <a:chExt cx="4731840" cy="2835000"/>
            </a:xfrm>
          </p:grpSpPr>
          <p:pic>
            <p:nvPicPr>
              <p:cNvPr id="382" name="Picture 5" descr="_x000b_11_07_U.jpg                                                    00019A44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2517840" y="3975120"/>
                <a:ext cx="4333680" cy="247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Text Box 6"/>
              <p:cNvSpPr/>
              <p:nvPr/>
            </p:nvSpPr>
            <p:spPr>
              <a:xfrm>
                <a:off x="2119680" y="4148280"/>
                <a:ext cx="4215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7"/>
              <p:cNvSpPr/>
              <p:nvPr/>
            </p:nvSpPr>
            <p:spPr>
              <a:xfrm>
                <a:off x="2123640" y="5033880"/>
                <a:ext cx="65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ranscrip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8"/>
              <p:cNvSpPr/>
              <p:nvPr/>
            </p:nvSpPr>
            <p:spPr>
              <a:xfrm>
                <a:off x="2131200" y="6137280"/>
                <a:ext cx="515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RN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9"/>
              <p:cNvSpPr/>
              <p:nvPr/>
            </p:nvSpPr>
            <p:spPr>
              <a:xfrm>
                <a:off x="4343760" y="3613320"/>
                <a:ext cx="500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xon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10"/>
              <p:cNvSpPr/>
              <p:nvPr/>
            </p:nvSpPr>
            <p:spPr>
              <a:xfrm>
                <a:off x="4595760" y="3819600"/>
                <a:ext cx="0" cy="255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Line 11"/>
              <p:cNvSpPr/>
              <p:nvPr/>
            </p:nvSpPr>
            <p:spPr>
              <a:xfrm flipV="1">
                <a:off x="3321000" y="3816000"/>
                <a:ext cx="1271520" cy="268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12"/>
              <p:cNvSpPr/>
              <p:nvPr/>
            </p:nvSpPr>
            <p:spPr>
              <a:xfrm flipV="1">
                <a:off x="3722760" y="3812760"/>
                <a:ext cx="876240" cy="265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13"/>
              <p:cNvSpPr/>
              <p:nvPr/>
            </p:nvSpPr>
            <p:spPr>
              <a:xfrm>
                <a:off x="4592520" y="3816360"/>
                <a:ext cx="622440" cy="26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14"/>
              <p:cNvSpPr/>
              <p:nvPr/>
            </p:nvSpPr>
            <p:spPr>
              <a:xfrm>
                <a:off x="4594320" y="3811680"/>
                <a:ext cx="1512720" cy="266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15"/>
              <p:cNvSpPr/>
              <p:nvPr/>
            </p:nvSpPr>
            <p:spPr>
              <a:xfrm>
                <a:off x="4535280" y="5640480"/>
                <a:ext cx="282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16"/>
              <p:cNvSpPr/>
              <p:nvPr/>
            </p:nvSpPr>
            <p:spPr>
              <a:xfrm>
                <a:off x="2746080" y="5789520"/>
                <a:ext cx="839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splicin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Text Box 18"/>
            <p:cNvSpPr/>
            <p:nvPr/>
          </p:nvSpPr>
          <p:spPr>
            <a:xfrm>
              <a:off x="1176480" y="610092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8 Translation and later stages of gene expression are also subject to reg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fter eukaryotic mRNA is fully processed and transported to the cytoplas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ere are additional opportunities for regula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Breakdown of mR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lifetime of an mRNA molecu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elps determine how much protein is mad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Initiation of Trans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ong the many molecules involved in trans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re a great many proteins that control the start of polypeptide synthesi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rotein Activ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fter translation is comple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olypeptides may require alteration to become functiona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30"/>
          <p:cNvGrpSpPr/>
          <p:nvPr/>
        </p:nvGrpSpPr>
        <p:grpSpPr>
          <a:xfrm>
            <a:off x="165240" y="3402000"/>
            <a:ext cx="8775720" cy="2610000"/>
            <a:chOff x="165240" y="3402000"/>
            <a:chExt cx="8775720" cy="2610000"/>
          </a:xfrm>
        </p:grpSpPr>
        <p:grpSp>
          <p:nvGrpSpPr>
            <p:cNvPr id="404" name="Group 4"/>
            <p:cNvGrpSpPr/>
            <p:nvPr/>
          </p:nvGrpSpPr>
          <p:grpSpPr>
            <a:xfrm>
              <a:off x="165240" y="3402000"/>
              <a:ext cx="8775720" cy="2362320"/>
              <a:chOff x="165240" y="3402000"/>
              <a:chExt cx="8775720" cy="2362320"/>
            </a:xfrm>
          </p:grpSpPr>
          <p:pic>
            <p:nvPicPr>
              <p:cNvPr id="405" name="Picture 5" descr="_x000b_11_08_U.jpg                                                    00019A44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165240" y="3402000"/>
                <a:ext cx="8775720" cy="21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Text Box 6"/>
              <p:cNvSpPr/>
              <p:nvPr/>
            </p:nvSpPr>
            <p:spPr>
              <a:xfrm>
                <a:off x="2206800" y="3881160"/>
                <a:ext cx="1991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olding of polypeptide and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ormation of S—S linkag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7"/>
              <p:cNvSpPr/>
              <p:nvPr/>
            </p:nvSpPr>
            <p:spPr>
              <a:xfrm>
                <a:off x="6201000" y="4062240"/>
                <a:ext cx="826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leava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Text Box 8"/>
              <p:cNvSpPr/>
              <p:nvPr/>
            </p:nvSpPr>
            <p:spPr>
              <a:xfrm rot="2677800">
                <a:off x="721440" y="3882600"/>
                <a:ext cx="39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9"/>
              <p:cNvSpPr/>
              <p:nvPr/>
            </p:nvSpPr>
            <p:spPr>
              <a:xfrm rot="20089800">
                <a:off x="473400" y="4246200"/>
                <a:ext cx="39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10"/>
              <p:cNvSpPr/>
              <p:nvPr/>
            </p:nvSpPr>
            <p:spPr>
              <a:xfrm rot="14202600">
                <a:off x="1441800" y="4651200"/>
                <a:ext cx="39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 Box 11"/>
              <p:cNvSpPr/>
              <p:nvPr/>
            </p:nvSpPr>
            <p:spPr>
              <a:xfrm rot="7417200">
                <a:off x="1303560" y="4360680"/>
                <a:ext cx="39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 Box 12"/>
              <p:cNvSpPr/>
              <p:nvPr/>
            </p:nvSpPr>
            <p:spPr>
              <a:xfrm rot="2305800">
                <a:off x="4726800" y="39175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13"/>
              <p:cNvSpPr/>
              <p:nvPr/>
            </p:nvSpPr>
            <p:spPr>
              <a:xfrm rot="2305800">
                <a:off x="4855320" y="40269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14"/>
              <p:cNvSpPr/>
              <p:nvPr/>
            </p:nvSpPr>
            <p:spPr>
              <a:xfrm>
                <a:off x="4587840" y="47210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15"/>
              <p:cNvSpPr/>
              <p:nvPr/>
            </p:nvSpPr>
            <p:spPr>
              <a:xfrm>
                <a:off x="4792680" y="47163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16"/>
              <p:cNvSpPr/>
              <p:nvPr/>
            </p:nvSpPr>
            <p:spPr>
              <a:xfrm rot="19260000">
                <a:off x="5166360" y="43524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17"/>
              <p:cNvSpPr/>
              <p:nvPr/>
            </p:nvSpPr>
            <p:spPr>
              <a:xfrm rot="19260000">
                <a:off x="5309280" y="42141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18"/>
              <p:cNvSpPr/>
              <p:nvPr/>
            </p:nvSpPr>
            <p:spPr>
              <a:xfrm rot="3109800">
                <a:off x="7752600" y="393228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19"/>
              <p:cNvSpPr/>
              <p:nvPr/>
            </p:nvSpPr>
            <p:spPr>
              <a:xfrm rot="3109800">
                <a:off x="7885800" y="40752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20"/>
              <p:cNvSpPr/>
              <p:nvPr/>
            </p:nvSpPr>
            <p:spPr>
              <a:xfrm>
                <a:off x="7634160" y="47415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21"/>
              <p:cNvSpPr/>
              <p:nvPr/>
            </p:nvSpPr>
            <p:spPr>
              <a:xfrm>
                <a:off x="7834320" y="47322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Text Box 22"/>
              <p:cNvSpPr/>
              <p:nvPr/>
            </p:nvSpPr>
            <p:spPr>
              <a:xfrm rot="19783200">
                <a:off x="8215560" y="43794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23"/>
              <p:cNvSpPr/>
              <p:nvPr/>
            </p:nvSpPr>
            <p:spPr>
              <a:xfrm rot="19783200">
                <a:off x="8358480" y="422208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24"/>
              <p:cNvSpPr/>
              <p:nvPr/>
            </p:nvSpPr>
            <p:spPr>
              <a:xfrm>
                <a:off x="686880" y="5303520"/>
                <a:ext cx="1363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itial polypeptid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inactiv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 Box 25"/>
              <p:cNvSpPr/>
              <p:nvPr/>
            </p:nvSpPr>
            <p:spPr>
              <a:xfrm>
                <a:off x="4305600" y="5305320"/>
                <a:ext cx="1474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olded polypeptid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inactiv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26"/>
              <p:cNvSpPr/>
              <p:nvPr/>
            </p:nvSpPr>
            <p:spPr>
              <a:xfrm>
                <a:off x="7508160" y="5305320"/>
                <a:ext cx="944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tive form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f insul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27"/>
              <p:cNvSpPr/>
              <p:nvPr/>
            </p:nvSpPr>
            <p:spPr>
              <a:xfrm rot="17591400">
                <a:off x="1312200" y="3803040"/>
                <a:ext cx="39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 Box 28"/>
              <p:cNvSpPr/>
              <p:nvPr/>
            </p:nvSpPr>
            <p:spPr>
              <a:xfrm rot="19912800">
                <a:off x="1886400" y="4289040"/>
                <a:ext cx="39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Text Box 29"/>
            <p:cNvSpPr/>
            <p:nvPr/>
          </p:nvSpPr>
          <p:spPr>
            <a:xfrm>
              <a:off x="3565440" y="573552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rotein Breakdow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of the proteins that trigger metabolic changes in 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re broken down within a few minutes or hour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9 Review: Multiple mechanisms regulate gene expression in eukaryo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38"/>
          <p:cNvGrpSpPr/>
          <p:nvPr/>
        </p:nvGrpSpPr>
        <p:grpSpPr>
          <a:xfrm>
            <a:off x="4687920" y="1271520"/>
            <a:ext cx="3411360" cy="5243760"/>
            <a:chOff x="4687920" y="1271520"/>
            <a:chExt cx="3411360" cy="5243760"/>
          </a:xfrm>
        </p:grpSpPr>
        <p:grpSp>
          <p:nvGrpSpPr>
            <p:cNvPr id="435" name="Group 36"/>
            <p:cNvGrpSpPr/>
            <p:nvPr/>
          </p:nvGrpSpPr>
          <p:grpSpPr>
            <a:xfrm>
              <a:off x="5626080" y="1271520"/>
              <a:ext cx="2473200" cy="5243760"/>
              <a:chOff x="5626080" y="1271520"/>
              <a:chExt cx="2473200" cy="5243760"/>
            </a:xfrm>
          </p:grpSpPr>
          <p:pic>
            <p:nvPicPr>
              <p:cNvPr id="436" name="Picture 5" descr="_x000b_11_09_U.jpg                                                    00019A44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5626080" y="1271520"/>
                <a:ext cx="2473200" cy="524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Text Box 6"/>
              <p:cNvSpPr/>
              <p:nvPr/>
            </p:nvSpPr>
            <p:spPr>
              <a:xfrm>
                <a:off x="6551640" y="1425600"/>
                <a:ext cx="561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CLEU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7"/>
              <p:cNvSpPr/>
              <p:nvPr/>
            </p:nvSpPr>
            <p:spPr>
              <a:xfrm>
                <a:off x="5832720" y="1625760"/>
                <a:ext cx="6408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hromosom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8"/>
              <p:cNvSpPr/>
              <p:nvPr/>
            </p:nvSpPr>
            <p:spPr>
              <a:xfrm>
                <a:off x="5973480" y="2190600"/>
                <a:ext cx="3682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en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9"/>
              <p:cNvSpPr/>
              <p:nvPr/>
            </p:nvSpPr>
            <p:spPr>
              <a:xfrm>
                <a:off x="5811840" y="2681280"/>
                <a:ext cx="677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NA transcrip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0"/>
              <p:cNvSpPr/>
              <p:nvPr/>
            </p:nvSpPr>
            <p:spPr>
              <a:xfrm>
                <a:off x="5775120" y="3440160"/>
                <a:ext cx="7704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RNA in nucleu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1"/>
              <p:cNvSpPr/>
              <p:nvPr/>
            </p:nvSpPr>
            <p:spPr>
              <a:xfrm>
                <a:off x="5821200" y="3979800"/>
                <a:ext cx="74016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mRNA in cytoplasm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2"/>
              <p:cNvSpPr/>
              <p:nvPr/>
            </p:nvSpPr>
            <p:spPr>
              <a:xfrm>
                <a:off x="5857560" y="4788000"/>
                <a:ext cx="5799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olypeptid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13"/>
              <p:cNvSpPr/>
              <p:nvPr/>
            </p:nvSpPr>
            <p:spPr>
              <a:xfrm>
                <a:off x="5834160" y="5386320"/>
                <a:ext cx="644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ctive protei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14"/>
              <p:cNvSpPr/>
              <p:nvPr/>
            </p:nvSpPr>
            <p:spPr>
              <a:xfrm>
                <a:off x="6388920" y="5622840"/>
                <a:ext cx="5634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reakdown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f protei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Text Box 15"/>
              <p:cNvSpPr/>
              <p:nvPr/>
            </p:nvSpPr>
            <p:spPr>
              <a:xfrm>
                <a:off x="6389280" y="5075280"/>
                <a:ext cx="10404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leavage / modification /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ctiva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Text Box 16"/>
              <p:cNvSpPr/>
              <p:nvPr/>
            </p:nvSpPr>
            <p:spPr>
              <a:xfrm>
                <a:off x="6390720" y="4524480"/>
                <a:ext cx="5950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Text Box 17"/>
              <p:cNvSpPr/>
              <p:nvPr/>
            </p:nvSpPr>
            <p:spPr>
              <a:xfrm>
                <a:off x="6393600" y="4259160"/>
                <a:ext cx="8938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reakdown of mRN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 Box 18"/>
              <p:cNvSpPr/>
              <p:nvPr/>
            </p:nvSpPr>
            <p:spPr>
              <a:xfrm>
                <a:off x="6562800" y="4041720"/>
                <a:ext cx="6501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YTOPLAS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19"/>
              <p:cNvSpPr/>
              <p:nvPr/>
            </p:nvSpPr>
            <p:spPr>
              <a:xfrm>
                <a:off x="6390720" y="3738600"/>
                <a:ext cx="76428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low through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uclear envelop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20"/>
              <p:cNvSpPr/>
              <p:nvPr/>
            </p:nvSpPr>
            <p:spPr>
              <a:xfrm>
                <a:off x="6394680" y="3209760"/>
                <a:ext cx="4474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plicin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Text Box 21"/>
              <p:cNvSpPr/>
              <p:nvPr/>
            </p:nvSpPr>
            <p:spPr>
              <a:xfrm>
                <a:off x="6393240" y="2935440"/>
                <a:ext cx="9550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ddition of cap and tail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22"/>
              <p:cNvSpPr/>
              <p:nvPr/>
            </p:nvSpPr>
            <p:spPr>
              <a:xfrm>
                <a:off x="6390720" y="2408400"/>
                <a:ext cx="6714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23"/>
              <p:cNvSpPr/>
              <p:nvPr/>
            </p:nvSpPr>
            <p:spPr>
              <a:xfrm>
                <a:off x="6389280" y="1879560"/>
                <a:ext cx="9504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NA unpackin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ther changes to DN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 Box 24"/>
              <p:cNvSpPr/>
              <p:nvPr/>
            </p:nvSpPr>
            <p:spPr>
              <a:xfrm>
                <a:off x="7372080" y="2355840"/>
                <a:ext cx="3682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en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AutoShape 25"/>
              <p:cNvSpPr/>
              <p:nvPr/>
            </p:nvSpPr>
            <p:spPr>
              <a:xfrm rot="5400000">
                <a:off x="7395840" y="1949400"/>
                <a:ext cx="57240" cy="809640"/>
              </a:xfrm>
              <a:custGeom>
                <a:avLst/>
                <a:gdLst>
                  <a:gd name="textAreaLeft" fmla="*/ 0 w 57240"/>
                  <a:gd name="textAreaRight" fmla="*/ 20520 w 57240"/>
                  <a:gd name="textAreaTop" fmla="*/ 2520 h 809640"/>
                  <a:gd name="textAreaBottom" fmla="*/ 807120 h 80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22"/>
                      <a:pt x="10800" y="243"/>
                    </a:cubicBezTo>
                    <a:lnTo>
                      <a:pt x="10800" y="7523"/>
                    </a:lnTo>
                    <a:cubicBezTo>
                      <a:pt x="10800" y="7645"/>
                      <a:pt x="16200" y="7766"/>
                      <a:pt x="21600" y="7766"/>
                    </a:cubicBezTo>
                    <a:cubicBezTo>
                      <a:pt x="16200" y="7766"/>
                      <a:pt x="10800" y="7888"/>
                      <a:pt x="10800" y="8009"/>
                    </a:cubicBezTo>
                    <a:lnTo>
                      <a:pt x="10800" y="21357"/>
                    </a:lnTo>
                    <a:cubicBezTo>
                      <a:pt x="10800" y="21479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26"/>
              <p:cNvSpPr/>
              <p:nvPr/>
            </p:nvSpPr>
            <p:spPr>
              <a:xfrm>
                <a:off x="6937920" y="2544840"/>
                <a:ext cx="354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x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27"/>
              <p:cNvSpPr/>
              <p:nvPr/>
            </p:nvSpPr>
            <p:spPr>
              <a:xfrm>
                <a:off x="7104240" y="2684520"/>
                <a:ext cx="0" cy="8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28"/>
              <p:cNvSpPr/>
              <p:nvPr/>
            </p:nvSpPr>
            <p:spPr>
              <a:xfrm>
                <a:off x="7184880" y="2708280"/>
                <a:ext cx="0" cy="17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29"/>
              <p:cNvSpPr/>
              <p:nvPr/>
            </p:nvSpPr>
            <p:spPr>
              <a:xfrm>
                <a:off x="7002000" y="2833560"/>
                <a:ext cx="3772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ntr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Text Box 30"/>
              <p:cNvSpPr/>
              <p:nvPr/>
            </p:nvSpPr>
            <p:spPr>
              <a:xfrm>
                <a:off x="7003080" y="3473280"/>
                <a:ext cx="320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31"/>
              <p:cNvSpPr/>
              <p:nvPr/>
            </p:nvSpPr>
            <p:spPr>
              <a:xfrm>
                <a:off x="7229520" y="3557520"/>
                <a:ext cx="93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 Box 32"/>
              <p:cNvSpPr/>
              <p:nvPr/>
            </p:nvSpPr>
            <p:spPr>
              <a:xfrm>
                <a:off x="7655040" y="3192480"/>
                <a:ext cx="3042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33"/>
              <p:cNvSpPr/>
              <p:nvPr/>
            </p:nvSpPr>
            <p:spPr>
              <a:xfrm flipH="1">
                <a:off x="7791480" y="3343320"/>
                <a:ext cx="23760" cy="12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34"/>
              <p:cNvSpPr/>
              <p:nvPr/>
            </p:nvSpPr>
            <p:spPr>
              <a:xfrm>
                <a:off x="7499520" y="4432320"/>
                <a:ext cx="44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roken-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own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RN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35"/>
              <p:cNvSpPr/>
              <p:nvPr/>
            </p:nvSpPr>
            <p:spPr>
              <a:xfrm>
                <a:off x="7537680" y="5938920"/>
                <a:ext cx="44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Broken-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own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rotei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Text Box 37"/>
            <p:cNvSpPr/>
            <p:nvPr/>
          </p:nvSpPr>
          <p:spPr>
            <a:xfrm>
              <a:off x="4687920" y="615168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ANIMAL CLONING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04920" y="276120"/>
            <a:ext cx="853416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10 Nuclear transplantation can be used to clone anim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7afbd"/>
                </a:solidFill>
                <a:uFillTx/>
                <a:latin typeface="Constantia"/>
                <a:hlinkClick r:id="rId1"/>
              </a:rPr>
              <a:t>http://media.pearsoncmg.com/bc/bc_campbell_essentials_3/discvids/_html/index.htm?info_text=cc5_clonin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4456"/>
                </a:solidFill>
                <a:latin typeface="Calibri"/>
              </a:rPr>
              <a:t>Three Different Types of Cloning</a:t>
            </a:r>
            <a:endParaRPr b="0" lang="en-US" sz="48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mbryon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roductive Clon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apeut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04560" y="685800"/>
            <a:ext cx="862812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oning has many benef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ut evokes just as many concer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4" descr="_x000f_11_UN209c_U.jpg                                                00019A29&#10;Abhinav 11                     BE0A27B8:"/>
          <p:cNvPicPr/>
          <p:nvPr/>
        </p:nvPicPr>
        <p:blipFill>
          <a:blip r:embed="rId1"/>
          <a:stretch/>
        </p:blipFill>
        <p:spPr>
          <a:xfrm>
            <a:off x="257040" y="3798720"/>
            <a:ext cx="3140280" cy="2538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_x000f_11_UN209b_U.jpg                                                00019A29&#10;Abhinav 11                     BE0A27B8:"/>
          <p:cNvPicPr/>
          <p:nvPr/>
        </p:nvPicPr>
        <p:blipFill>
          <a:blip r:embed="rId2"/>
          <a:stretch/>
        </p:blipFill>
        <p:spPr>
          <a:xfrm>
            <a:off x="3543480" y="3314880"/>
            <a:ext cx="2522520" cy="3066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_x000f_11_UN209a_U.jpg                                                00019A29&#10;Abhinav 11                     BE0A27B8:"/>
          <p:cNvPicPr/>
          <p:nvPr/>
        </p:nvPicPr>
        <p:blipFill>
          <a:blip r:embed="rId3"/>
          <a:stretch/>
        </p:blipFill>
        <p:spPr>
          <a:xfrm>
            <a:off x="6211800" y="3065400"/>
            <a:ext cx="264816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Embryonic Stem Cells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533600"/>
            <a:ext cx="8229600" cy="47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nature, embryonic stem cells give rise to all the different kinds of specialized cells of the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a different cloning procedure (Figure 11.10, lower branch)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embryonic stem cells (ES cells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re harvested from the blastocys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grpSp>
        <p:nvGrpSpPr>
          <p:cNvPr id="476" name="Group 19"/>
          <p:cNvGrpSpPr/>
          <p:nvPr/>
        </p:nvGrpSpPr>
        <p:grpSpPr>
          <a:xfrm>
            <a:off x="413640" y="1982880"/>
            <a:ext cx="8327520" cy="4304880"/>
            <a:chOff x="413640" y="1982880"/>
            <a:chExt cx="8327520" cy="4304880"/>
          </a:xfrm>
        </p:grpSpPr>
        <p:grpSp>
          <p:nvGrpSpPr>
            <p:cNvPr id="477" name="Group 5"/>
            <p:cNvGrpSpPr/>
            <p:nvPr/>
          </p:nvGrpSpPr>
          <p:grpSpPr>
            <a:xfrm>
              <a:off x="413640" y="1982880"/>
              <a:ext cx="8327520" cy="3850560"/>
              <a:chOff x="413640" y="1982880"/>
              <a:chExt cx="8327520" cy="3850560"/>
            </a:xfrm>
          </p:grpSpPr>
          <p:pic>
            <p:nvPicPr>
              <p:cNvPr id="478" name="Picture 6" descr="_x000b_11_10_U.jpg                                                    00019A44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559800" y="1982880"/>
                <a:ext cx="7950600" cy="337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9" name="Text Box 7"/>
              <p:cNvSpPr/>
              <p:nvPr/>
            </p:nvSpPr>
            <p:spPr>
              <a:xfrm>
                <a:off x="413640" y="4187520"/>
                <a:ext cx="13190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move nucleu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rom egg cel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8"/>
              <p:cNvSpPr/>
              <p:nvPr/>
            </p:nvSpPr>
            <p:spPr>
              <a:xfrm>
                <a:off x="1588320" y="4185360"/>
                <a:ext cx="1294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dd somatic cel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rom adult don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Text Box 9"/>
              <p:cNvSpPr/>
              <p:nvPr/>
            </p:nvSpPr>
            <p:spPr>
              <a:xfrm>
                <a:off x="2946240" y="4179240"/>
                <a:ext cx="2187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row in culture to produce 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arly embryo (blastocys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Text Box 10"/>
              <p:cNvSpPr/>
              <p:nvPr/>
            </p:nvSpPr>
            <p:spPr>
              <a:xfrm>
                <a:off x="5280480" y="3270600"/>
                <a:ext cx="1566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mplant blastocyst in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urrogate moth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Text Box 11"/>
              <p:cNvSpPr/>
              <p:nvPr/>
            </p:nvSpPr>
            <p:spPr>
              <a:xfrm>
                <a:off x="5352840" y="5189760"/>
                <a:ext cx="1869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move embryonic stem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ells from blastocyst and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row in cultu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12"/>
              <p:cNvSpPr/>
              <p:nvPr/>
            </p:nvSpPr>
            <p:spPr>
              <a:xfrm>
                <a:off x="7040160" y="5191920"/>
                <a:ext cx="1689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duce stem cells t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orm specialized cell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therapeutic cloning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 Box 13"/>
              <p:cNvSpPr/>
              <p:nvPr/>
            </p:nvSpPr>
            <p:spPr>
              <a:xfrm>
                <a:off x="6949440" y="3268800"/>
                <a:ext cx="1791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lone of donor is bor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reproductive cloning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14"/>
              <p:cNvSpPr/>
              <p:nvPr/>
            </p:nvSpPr>
            <p:spPr>
              <a:xfrm flipV="1">
                <a:off x="2003040" y="2520000"/>
                <a:ext cx="237960" cy="25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15"/>
              <p:cNvSpPr/>
              <p:nvPr/>
            </p:nvSpPr>
            <p:spPr>
              <a:xfrm>
                <a:off x="2188080" y="2307960"/>
                <a:ext cx="59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nor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16"/>
              <p:cNvSpPr/>
              <p:nvPr/>
            </p:nvSpPr>
            <p:spPr>
              <a:xfrm flipV="1">
                <a:off x="3313800" y="2665800"/>
                <a:ext cx="0" cy="1210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Text Box 17"/>
              <p:cNvSpPr/>
              <p:nvPr/>
            </p:nvSpPr>
            <p:spPr>
              <a:xfrm>
                <a:off x="2833200" y="2117880"/>
                <a:ext cx="1080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ucleus from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nor cel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Text Box 18"/>
            <p:cNvSpPr/>
            <p:nvPr/>
          </p:nvSpPr>
          <p:spPr>
            <a:xfrm>
              <a:off x="3803760" y="601128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Reproductive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the animal to be cloned is a mammal, further development requires implanting the blastocyst into the uterus of a surrogate moth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Therapeutic 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row cells for the repair of injured or diseased org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546120" indent="-273240">
              <a:spcBef>
                <a:spcPts val="575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Such cells could be made by inserting a cell nucleus from a patient into an ES cell from which the nucleus has been removed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3" marL="546120" indent="-273240">
              <a:spcBef>
                <a:spcPts val="575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When implanted in the patient, these cells would not be rejected by the immune system because they would be genetically identical to the patient’s own cells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75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ONNECTION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11 Reproductive cloning has valuable applications, but human reproductive cloning raises ethical iss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productive cloning of nonhuman mamm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s useful in research, agriculture, and medicin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7"/>
          <p:cNvGrpSpPr/>
          <p:nvPr/>
        </p:nvGrpSpPr>
        <p:grpSpPr>
          <a:xfrm>
            <a:off x="3920760" y="3681360"/>
            <a:ext cx="4896360" cy="2745000"/>
            <a:chOff x="3920760" y="3681360"/>
            <a:chExt cx="4896360" cy="2745000"/>
          </a:xfrm>
        </p:grpSpPr>
        <p:pic>
          <p:nvPicPr>
            <p:cNvPr id="499" name="Picture 5" descr="_x000b_11_11_U.jpg                                                    00019A29&#10;Abhinav 11                     BE0A27B8:"/>
            <p:cNvPicPr/>
            <p:nvPr/>
          </p:nvPicPr>
          <p:blipFill>
            <a:blip r:embed="rId1"/>
            <a:stretch/>
          </p:blipFill>
          <p:spPr>
            <a:xfrm>
              <a:off x="4975200" y="3681360"/>
              <a:ext cx="3841920" cy="27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 Box 6"/>
            <p:cNvSpPr/>
            <p:nvPr/>
          </p:nvSpPr>
          <p:spPr>
            <a:xfrm>
              <a:off x="3920760" y="610092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itics point out that there are many obstac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oth practical and ethical, to human clon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16"/>
          <p:cNvGrpSpPr/>
          <p:nvPr/>
        </p:nvGrpSpPr>
        <p:grpSpPr>
          <a:xfrm>
            <a:off x="3812760" y="3508200"/>
            <a:ext cx="4646160" cy="3033720"/>
            <a:chOff x="3812760" y="3508200"/>
            <a:chExt cx="4646160" cy="3033720"/>
          </a:xfrm>
        </p:grpSpPr>
        <p:grpSp>
          <p:nvGrpSpPr>
            <p:cNvPr id="504" name="Group 14"/>
            <p:cNvGrpSpPr/>
            <p:nvPr/>
          </p:nvGrpSpPr>
          <p:grpSpPr>
            <a:xfrm>
              <a:off x="4881600" y="3508200"/>
              <a:ext cx="3577320" cy="3033720"/>
              <a:chOff x="4881600" y="3508200"/>
              <a:chExt cx="3577320" cy="3033720"/>
            </a:xfrm>
          </p:grpSpPr>
          <p:pic>
            <p:nvPicPr>
              <p:cNvPr id="505" name="Picture 6" descr="_x000b_11_12_U.jpg                                                    00019A44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5019480" y="3508200"/>
                <a:ext cx="3273480" cy="267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6" name="Text Box 7"/>
              <p:cNvSpPr/>
              <p:nvPr/>
            </p:nvSpPr>
            <p:spPr>
              <a:xfrm>
                <a:off x="4881600" y="4438440"/>
                <a:ext cx="822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dult stem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ells in b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arrow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Text Box 8"/>
              <p:cNvSpPr/>
              <p:nvPr/>
            </p:nvSpPr>
            <p:spPr>
              <a:xfrm>
                <a:off x="4925880" y="5511600"/>
                <a:ext cx="711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ultured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mbryonic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tem cell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Text Box 9"/>
              <p:cNvSpPr/>
              <p:nvPr/>
            </p:nvSpPr>
            <p:spPr>
              <a:xfrm>
                <a:off x="6098040" y="6163920"/>
                <a:ext cx="99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ifferent culture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dition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10"/>
              <p:cNvSpPr/>
              <p:nvPr/>
            </p:nvSpPr>
            <p:spPr>
              <a:xfrm>
                <a:off x="7281720" y="5913000"/>
                <a:ext cx="1121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eart muscle cell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Text Box 11"/>
              <p:cNvSpPr/>
              <p:nvPr/>
            </p:nvSpPr>
            <p:spPr>
              <a:xfrm>
                <a:off x="7263360" y="6173640"/>
                <a:ext cx="119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Different types of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differentiated cell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Text Box 12"/>
              <p:cNvSpPr/>
              <p:nvPr/>
            </p:nvSpPr>
            <p:spPr>
              <a:xfrm>
                <a:off x="7197120" y="5349600"/>
                <a:ext cx="750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rve cell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13"/>
              <p:cNvSpPr/>
              <p:nvPr/>
            </p:nvSpPr>
            <p:spPr>
              <a:xfrm>
                <a:off x="7366680" y="4081320"/>
                <a:ext cx="738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lood cell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Text Box 15"/>
            <p:cNvSpPr/>
            <p:nvPr/>
          </p:nvSpPr>
          <p:spPr>
            <a:xfrm>
              <a:off x="3812760" y="623052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160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ONNECTION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383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1.12 Therapeutic cloning can produce stem cells with great medical potenti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ke embryonic stem cells, adult stem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 perpetuate themselves in culture and give rise to differentiated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like embryonic stem 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dult stem cells normally give rise to only a limited range of cell typ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Calibri"/>
              </a:rPr>
              <a:t>THE GENETIC CONTROL OF EMBRYONIC DEVELOPMENT</a:t>
            </a:r>
            <a:endParaRPr b="0" lang="en-US" sz="22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685800"/>
            <a:ext cx="853416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1.13 Cascades of gene expression and cell-to-cell signaling direct the development of an anim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arly understanding of the relationship between gene expression and embryonic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me from studies of mutants of the fruit fly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rosophila melanogas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22"/>
          <p:cNvGrpSpPr/>
          <p:nvPr/>
        </p:nvGrpSpPr>
        <p:grpSpPr>
          <a:xfrm>
            <a:off x="2805120" y="3792600"/>
            <a:ext cx="4808520" cy="2716920"/>
            <a:chOff x="2805120" y="3792600"/>
            <a:chExt cx="4808520" cy="2716920"/>
          </a:xfrm>
        </p:grpSpPr>
        <p:pic>
          <p:nvPicPr>
            <p:cNvPr id="523" name="Picture 6" descr="_x000c_11_13a_U.jpg                                                   00019A29&#10;Abhinav 11                     BE0A27B8:"/>
            <p:cNvPicPr/>
            <p:nvPr/>
          </p:nvPicPr>
          <p:blipFill>
            <a:blip r:embed="rId1"/>
            <a:stretch/>
          </p:blipFill>
          <p:spPr>
            <a:xfrm>
              <a:off x="2805120" y="3792600"/>
              <a:ext cx="4808520" cy="26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Text Box 7"/>
            <p:cNvSpPr/>
            <p:nvPr/>
          </p:nvSpPr>
          <p:spPr>
            <a:xfrm>
              <a:off x="2901600" y="3984480"/>
              <a:ext cx="38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Ey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8"/>
            <p:cNvSpPr/>
            <p:nvPr/>
          </p:nvSpPr>
          <p:spPr>
            <a:xfrm>
              <a:off x="3209760" y="4151160"/>
              <a:ext cx="241560" cy="325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9"/>
            <p:cNvSpPr/>
            <p:nvPr/>
          </p:nvSpPr>
          <p:spPr>
            <a:xfrm>
              <a:off x="2917080" y="5310360"/>
              <a:ext cx="63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0"/>
            <p:cNvSpPr/>
            <p:nvPr/>
          </p:nvSpPr>
          <p:spPr>
            <a:xfrm flipH="1">
              <a:off x="3244680" y="4813200"/>
              <a:ext cx="541440" cy="5000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11"/>
            <p:cNvSpPr/>
            <p:nvPr/>
          </p:nvSpPr>
          <p:spPr>
            <a:xfrm>
              <a:off x="5509800" y="5842080"/>
              <a:ext cx="38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Le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2"/>
            <p:cNvSpPr/>
            <p:nvPr/>
          </p:nvSpPr>
          <p:spPr>
            <a:xfrm>
              <a:off x="5705640" y="5450040"/>
              <a:ext cx="0" cy="442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13"/>
            <p:cNvSpPr/>
            <p:nvPr/>
          </p:nvSpPr>
          <p:spPr>
            <a:xfrm rot="16200000">
              <a:off x="4891320" y="591300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M 50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14"/>
            <p:cNvSpPr/>
            <p:nvPr/>
          </p:nvSpPr>
          <p:spPr>
            <a:xfrm flipH="1">
              <a:off x="3246480" y="4819680"/>
              <a:ext cx="54288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15"/>
            <p:cNvSpPr/>
            <p:nvPr/>
          </p:nvSpPr>
          <p:spPr>
            <a:xfrm>
              <a:off x="5705640" y="5456160"/>
              <a:ext cx="0" cy="42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6"/>
            <p:cNvSpPr/>
            <p:nvPr/>
          </p:nvSpPr>
          <p:spPr>
            <a:xfrm>
              <a:off x="3219480" y="4156200"/>
              <a:ext cx="235080" cy="31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17"/>
            <p:cNvSpPr/>
            <p:nvPr/>
          </p:nvSpPr>
          <p:spPr>
            <a:xfrm>
              <a:off x="2933640" y="6278400"/>
              <a:ext cx="2129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ead of a normal fruit fl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8"/>
            <p:cNvSpPr/>
            <p:nvPr/>
          </p:nvSpPr>
          <p:spPr>
            <a:xfrm>
              <a:off x="5262480" y="6275520"/>
              <a:ext cx="216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ead of a developmental muta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20"/>
          <p:cNvSpPr/>
          <p:nvPr/>
        </p:nvSpPr>
        <p:spPr>
          <a:xfrm>
            <a:off x="1647360" y="624060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1.1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04920" y="685440"/>
            <a:ext cx="8534160" cy="14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774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A cascade of gene expression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77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Controls the development of an animal from a fertilized egg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5" descr="_x000c_11_13b_U.jpg                                                   00019A44&#10;Abhinav 11                     BE0A27B8:"/>
          <p:cNvPicPr/>
          <p:nvPr/>
        </p:nvPicPr>
        <p:blipFill>
          <a:blip r:embed="rId1"/>
          <a:stretch/>
        </p:blipFill>
        <p:spPr>
          <a:xfrm>
            <a:off x="4137120" y="1952640"/>
            <a:ext cx="1859040" cy="458784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6"/>
          <p:cNvSpPr/>
          <p:nvPr/>
        </p:nvSpPr>
        <p:spPr>
          <a:xfrm>
            <a:off x="4211280" y="2109960"/>
            <a:ext cx="6134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within ovarian</a:t>
            </a:r>
            <a:br>
              <a:rPr sz="500"/>
            </a:b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follicl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4299120" y="2357280"/>
            <a:ext cx="215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4302000" y="2849400"/>
            <a:ext cx="215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4451400" y="2486160"/>
            <a:ext cx="522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ollicle cell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0"/>
          <p:cNvSpPr/>
          <p:nvPr/>
        </p:nvSpPr>
        <p:spPr>
          <a:xfrm flipV="1">
            <a:off x="4829040" y="2421000"/>
            <a:ext cx="10332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1"/>
          <p:cNvSpPr/>
          <p:nvPr/>
        </p:nvSpPr>
        <p:spPr>
          <a:xfrm flipV="1">
            <a:off x="4843440" y="2478240"/>
            <a:ext cx="181080" cy="4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2"/>
          <p:cNvSpPr/>
          <p:nvPr/>
        </p:nvSpPr>
        <p:spPr>
          <a:xfrm>
            <a:off x="5454360" y="2108160"/>
            <a:ext cx="406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3"/>
          <p:cNvSpPr/>
          <p:nvPr/>
        </p:nvSpPr>
        <p:spPr>
          <a:xfrm>
            <a:off x="5440680" y="2208240"/>
            <a:ext cx="5054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Egg protein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ignaling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ollicle cell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4"/>
          <p:cNvSpPr/>
          <p:nvPr/>
        </p:nvSpPr>
        <p:spPr>
          <a:xfrm flipV="1">
            <a:off x="5289480" y="2189160"/>
            <a:ext cx="225360" cy="10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5"/>
          <p:cNvSpPr/>
          <p:nvPr/>
        </p:nvSpPr>
        <p:spPr>
          <a:xfrm flipV="1">
            <a:off x="5334120" y="2288880"/>
            <a:ext cx="166680" cy="4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6"/>
          <p:cNvSpPr/>
          <p:nvPr/>
        </p:nvSpPr>
        <p:spPr>
          <a:xfrm>
            <a:off x="5097240" y="2506680"/>
            <a:ext cx="66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ene expression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n follicle cell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7"/>
          <p:cNvSpPr/>
          <p:nvPr/>
        </p:nvSpPr>
        <p:spPr>
          <a:xfrm>
            <a:off x="5448600" y="2719440"/>
            <a:ext cx="489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ollicle cell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protein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ignaling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8"/>
          <p:cNvSpPr/>
          <p:nvPr/>
        </p:nvSpPr>
        <p:spPr>
          <a:xfrm flipV="1">
            <a:off x="5381640" y="2815920"/>
            <a:ext cx="1112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9"/>
          <p:cNvSpPr/>
          <p:nvPr/>
        </p:nvSpPr>
        <p:spPr>
          <a:xfrm>
            <a:off x="5084280" y="3073320"/>
            <a:ext cx="640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ocalization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of “head” mR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0"/>
          <p:cNvSpPr/>
          <p:nvPr/>
        </p:nvSpPr>
        <p:spPr>
          <a:xfrm>
            <a:off x="4305240" y="3417840"/>
            <a:ext cx="215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1"/>
          <p:cNvSpPr/>
          <p:nvPr/>
        </p:nvSpPr>
        <p:spPr>
          <a:xfrm>
            <a:off x="5077080" y="3657600"/>
            <a:ext cx="5601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Fertilization </a:t>
            </a:r>
            <a:br>
              <a:rPr sz="500"/>
            </a:b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and mitosi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2"/>
          <p:cNvSpPr/>
          <p:nvPr/>
        </p:nvSpPr>
        <p:spPr>
          <a:xfrm>
            <a:off x="5084280" y="3854520"/>
            <a:ext cx="640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ranslation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of “head” mR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3"/>
          <p:cNvSpPr/>
          <p:nvPr/>
        </p:nvSpPr>
        <p:spPr>
          <a:xfrm>
            <a:off x="5436360" y="4143240"/>
            <a:ext cx="5144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radient of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regulatory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24"/>
          <p:cNvSpPr/>
          <p:nvPr/>
        </p:nvSpPr>
        <p:spPr>
          <a:xfrm>
            <a:off x="5318280" y="4237200"/>
            <a:ext cx="203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5"/>
          <p:cNvSpPr/>
          <p:nvPr/>
        </p:nvSpPr>
        <p:spPr>
          <a:xfrm>
            <a:off x="5086080" y="4435560"/>
            <a:ext cx="660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ene express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6"/>
          <p:cNvSpPr/>
          <p:nvPr/>
        </p:nvSpPr>
        <p:spPr>
          <a:xfrm>
            <a:off x="5446800" y="4727520"/>
            <a:ext cx="4428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radient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of certain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7"/>
          <p:cNvSpPr/>
          <p:nvPr/>
        </p:nvSpPr>
        <p:spPr>
          <a:xfrm>
            <a:off x="5303880" y="4830840"/>
            <a:ext cx="212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8"/>
          <p:cNvSpPr/>
          <p:nvPr/>
        </p:nvSpPr>
        <p:spPr>
          <a:xfrm>
            <a:off x="5090760" y="5087880"/>
            <a:ext cx="660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ene express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9"/>
          <p:cNvSpPr/>
          <p:nvPr/>
        </p:nvSpPr>
        <p:spPr>
          <a:xfrm>
            <a:off x="5092560" y="5738760"/>
            <a:ext cx="660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ene express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0"/>
          <p:cNvSpPr/>
          <p:nvPr/>
        </p:nvSpPr>
        <p:spPr>
          <a:xfrm>
            <a:off x="5450400" y="5210280"/>
            <a:ext cx="456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ody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1"/>
          <p:cNvSpPr/>
          <p:nvPr/>
        </p:nvSpPr>
        <p:spPr>
          <a:xfrm flipH="1">
            <a:off x="5291280" y="5294160"/>
            <a:ext cx="23328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2"/>
          <p:cNvSpPr/>
          <p:nvPr/>
        </p:nvSpPr>
        <p:spPr>
          <a:xfrm flipH="1">
            <a:off x="5344920" y="5294160"/>
            <a:ext cx="176040" cy="18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3"/>
          <p:cNvSpPr/>
          <p:nvPr/>
        </p:nvSpPr>
        <p:spPr>
          <a:xfrm>
            <a:off x="5475240" y="5524560"/>
            <a:ext cx="394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0.1 m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4"/>
          <p:cNvSpPr/>
          <p:nvPr/>
        </p:nvSpPr>
        <p:spPr>
          <a:xfrm>
            <a:off x="5469480" y="6043680"/>
            <a:ext cx="406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ail end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35"/>
          <p:cNvSpPr/>
          <p:nvPr/>
        </p:nvSpPr>
        <p:spPr>
          <a:xfrm>
            <a:off x="5484600" y="6257880"/>
            <a:ext cx="394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0.5 m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6"/>
          <p:cNvSpPr/>
          <p:nvPr/>
        </p:nvSpPr>
        <p:spPr>
          <a:xfrm>
            <a:off x="4395240" y="6062760"/>
            <a:ext cx="4550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ead end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7"/>
          <p:cNvSpPr/>
          <p:nvPr/>
        </p:nvSpPr>
        <p:spPr>
          <a:xfrm>
            <a:off x="4302000" y="4151160"/>
            <a:ext cx="215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8"/>
          <p:cNvSpPr/>
          <p:nvPr/>
        </p:nvSpPr>
        <p:spPr>
          <a:xfrm>
            <a:off x="4305240" y="4780080"/>
            <a:ext cx="215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9"/>
          <p:cNvSpPr/>
          <p:nvPr/>
        </p:nvSpPr>
        <p:spPr>
          <a:xfrm>
            <a:off x="4305240" y="5389560"/>
            <a:ext cx="215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0"/>
          <p:cNvSpPr/>
          <p:nvPr/>
        </p:nvSpPr>
        <p:spPr>
          <a:xfrm>
            <a:off x="4308480" y="6197760"/>
            <a:ext cx="215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1"/>
          <p:cNvSpPr/>
          <p:nvPr/>
        </p:nvSpPr>
        <p:spPr>
          <a:xfrm>
            <a:off x="4233960" y="5892840"/>
            <a:ext cx="4381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Adult fly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2"/>
          <p:cNvSpPr/>
          <p:nvPr/>
        </p:nvSpPr>
        <p:spPr>
          <a:xfrm>
            <a:off x="4233240" y="3897360"/>
            <a:ext cx="418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Embry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3"/>
          <p:cNvSpPr/>
          <p:nvPr/>
        </p:nvSpPr>
        <p:spPr>
          <a:xfrm>
            <a:off x="4414320" y="3552840"/>
            <a:ext cx="374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ead”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44"/>
          <p:cNvSpPr/>
          <p:nvPr/>
        </p:nvSpPr>
        <p:spPr>
          <a:xfrm flipH="1">
            <a:off x="4722480" y="3529080"/>
            <a:ext cx="315720" cy="9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5"/>
          <p:cNvSpPr/>
          <p:nvPr/>
        </p:nvSpPr>
        <p:spPr>
          <a:xfrm>
            <a:off x="4231800" y="5737320"/>
            <a:ext cx="349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7"/>
          <p:cNvSpPr/>
          <p:nvPr/>
        </p:nvSpPr>
        <p:spPr>
          <a:xfrm>
            <a:off x="2955600" y="609768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1.13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56800" y="70452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GENE REGULATION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14400" y="193464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1 Proteins interacting with DNA turn prokaryotic genes on or off in response to environmental chan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1752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rly understanding of gene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28800" indent="-54612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ame from studies of the bacterium </a:t>
            </a:r>
            <a:r>
              <a:rPr b="0" i="1" lang="en-US" sz="2100" spc="-1" strike="noStrike">
                <a:solidFill>
                  <a:srgbClr val="000000"/>
                </a:solidFill>
                <a:latin typeface="Constantia"/>
              </a:rPr>
              <a:t>Escherichia coli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0"/>
          <p:cNvGrpSpPr/>
          <p:nvPr/>
        </p:nvGrpSpPr>
        <p:grpSpPr>
          <a:xfrm>
            <a:off x="2219400" y="4003560"/>
            <a:ext cx="4299840" cy="2541960"/>
            <a:chOff x="2219400" y="4003560"/>
            <a:chExt cx="4299840" cy="2541960"/>
          </a:xfrm>
        </p:grpSpPr>
        <p:grpSp>
          <p:nvGrpSpPr>
            <p:cNvPr id="218" name="Group 8"/>
            <p:cNvGrpSpPr/>
            <p:nvPr/>
          </p:nvGrpSpPr>
          <p:grpSpPr>
            <a:xfrm>
              <a:off x="2219400" y="4003560"/>
              <a:ext cx="4157640" cy="2541960"/>
              <a:chOff x="2219400" y="4003560"/>
              <a:chExt cx="4157640" cy="2541960"/>
            </a:xfrm>
          </p:grpSpPr>
          <p:pic>
            <p:nvPicPr>
              <p:cNvPr id="219" name="Picture 6" descr="_x000c_11_01a_U.jpg                                                   00019A29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3336840" y="4003560"/>
                <a:ext cx="3040200" cy="25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 Box 7"/>
              <p:cNvSpPr/>
              <p:nvPr/>
            </p:nvSpPr>
            <p:spPr>
              <a:xfrm>
                <a:off x="2219400" y="6269040"/>
                <a:ext cx="109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igure 11.1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Rectangle 9"/>
            <p:cNvSpPr/>
            <p:nvPr/>
          </p:nvSpPr>
          <p:spPr>
            <a:xfrm rot="16200000">
              <a:off x="5581080" y="5600880"/>
              <a:ext cx="1614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lorized SEM 7,000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meotic ge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ontrol batteries of genes that shape anatomical parts such as antenna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304920" y="685800"/>
            <a:ext cx="85341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14 Signal transduction pathways convert messages received at the cell surface to responses within the ce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04920" y="685440"/>
            <a:ext cx="853416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01200" indent="-31464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gnal transduction pathw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705320" indent="-501120">
              <a:spcBef>
                <a:spcPts val="601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vert molecular messages to cell respon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5" descr="&#13;11_14_4_U.jpg                                                  0051B389_x0003_203                            BE72A059:"/>
          <p:cNvPicPr/>
          <p:nvPr/>
        </p:nvPicPr>
        <p:blipFill>
          <a:blip r:embed="rId1"/>
          <a:stretch/>
        </p:blipFill>
        <p:spPr>
          <a:xfrm>
            <a:off x="2916360" y="2139840"/>
            <a:ext cx="3004920" cy="430380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6"/>
          <p:cNvSpPr/>
          <p:nvPr/>
        </p:nvSpPr>
        <p:spPr>
          <a:xfrm>
            <a:off x="3052800" y="2259360"/>
            <a:ext cx="86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ling c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4308840" y="23860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l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lec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4484880" y="271476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ptor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5100120" y="26496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lasma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3095280" y="33184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rget c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4740120" y="355932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ay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3039480" y="409428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cription factor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activa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4327920" y="5232960"/>
            <a:ext cx="84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4"/>
          <p:cNvSpPr/>
          <p:nvPr/>
        </p:nvSpPr>
        <p:spPr>
          <a:xfrm>
            <a:off x="3506760" y="4645440"/>
            <a:ext cx="59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5"/>
          <p:cNvSpPr/>
          <p:nvPr/>
        </p:nvSpPr>
        <p:spPr>
          <a:xfrm>
            <a:off x="3395880" y="4985280"/>
            <a:ext cx="421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6"/>
          <p:cNvSpPr/>
          <p:nvPr/>
        </p:nvSpPr>
        <p:spPr>
          <a:xfrm>
            <a:off x="3828240" y="5283720"/>
            <a:ext cx="51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7"/>
          <p:cNvSpPr/>
          <p:nvPr/>
        </p:nvSpPr>
        <p:spPr>
          <a:xfrm>
            <a:off x="5297760" y="5502600"/>
            <a:ext cx="53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w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8"/>
          <p:cNvSpPr/>
          <p:nvPr/>
        </p:nvSpPr>
        <p:spPr>
          <a:xfrm>
            <a:off x="4853880" y="6024960"/>
            <a:ext cx="75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9"/>
          <p:cNvSpPr/>
          <p:nvPr/>
        </p:nvSpPr>
        <p:spPr>
          <a:xfrm>
            <a:off x="3422880" y="2594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0"/>
          <p:cNvSpPr/>
          <p:nvPr/>
        </p:nvSpPr>
        <p:spPr>
          <a:xfrm>
            <a:off x="4007160" y="278064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1"/>
          <p:cNvSpPr/>
          <p:nvPr/>
        </p:nvSpPr>
        <p:spPr>
          <a:xfrm>
            <a:off x="4465800" y="30060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2"/>
          <p:cNvSpPr/>
          <p:nvPr/>
        </p:nvSpPr>
        <p:spPr>
          <a:xfrm>
            <a:off x="4393080" y="4034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3"/>
          <p:cNvSpPr/>
          <p:nvPr/>
        </p:nvSpPr>
        <p:spPr>
          <a:xfrm>
            <a:off x="4081680" y="514764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4"/>
          <p:cNvSpPr/>
          <p:nvPr/>
        </p:nvSpPr>
        <p:spPr>
          <a:xfrm>
            <a:off x="4729320" y="5824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25"/>
          <p:cNvSpPr/>
          <p:nvPr/>
        </p:nvSpPr>
        <p:spPr>
          <a:xfrm>
            <a:off x="5433840" y="2990880"/>
            <a:ext cx="0" cy="227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26"/>
          <p:cNvSpPr/>
          <p:nvPr/>
        </p:nvSpPr>
        <p:spPr>
          <a:xfrm flipV="1">
            <a:off x="4167360" y="2519280"/>
            <a:ext cx="195120" cy="17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27"/>
          <p:cNvSpPr/>
          <p:nvPr/>
        </p:nvSpPr>
        <p:spPr>
          <a:xfrm>
            <a:off x="4394160" y="370044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28"/>
          <p:cNvSpPr/>
          <p:nvPr/>
        </p:nvSpPr>
        <p:spPr>
          <a:xfrm flipV="1">
            <a:off x="5243400" y="5645160"/>
            <a:ext cx="96840" cy="13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9"/>
          <p:cNvSpPr/>
          <p:nvPr/>
        </p:nvSpPr>
        <p:spPr>
          <a:xfrm flipV="1">
            <a:off x="4378320" y="2846520"/>
            <a:ext cx="149400" cy="17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30"/>
          <p:cNvSpPr/>
          <p:nvPr/>
        </p:nvSpPr>
        <p:spPr>
          <a:xfrm>
            <a:off x="4332240" y="3387600"/>
            <a:ext cx="447840" cy="606600"/>
          </a:xfrm>
          <a:custGeom>
            <a:avLst/>
            <a:gdLst>
              <a:gd name="textAreaLeft" fmla="*/ 0 w 447840"/>
              <a:gd name="textAreaRight" fmla="*/ 448200 w 447840"/>
              <a:gd name="textAreaTop" fmla="*/ 0 h 606600"/>
              <a:gd name="textAreaBottom" fmla="*/ 606960 h 606600"/>
            </a:gdLst>
            <a:ahLst/>
            <a:rect l="textAreaLeft" t="textAreaTop" r="textAreaRight" b="textAreaBottom"/>
            <a:pathLst>
              <a:path w="348" h="472">
                <a:moveTo>
                  <a:pt x="0" y="0"/>
                </a:moveTo>
                <a:lnTo>
                  <a:pt x="348" y="240"/>
                </a:lnTo>
                <a:lnTo>
                  <a:pt x="20" y="47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2"/>
          <p:cNvSpPr/>
          <p:nvPr/>
        </p:nvSpPr>
        <p:spPr>
          <a:xfrm>
            <a:off x="1861920" y="608796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1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15 Key developmental genes are very anci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meotic genes contain nucleotide sequences, called homeobox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at are very similar in many kinds of organism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14"/>
          <p:cNvGrpSpPr/>
          <p:nvPr/>
        </p:nvGrpSpPr>
        <p:grpSpPr>
          <a:xfrm>
            <a:off x="3393720" y="3421080"/>
            <a:ext cx="4079160" cy="2905200"/>
            <a:chOff x="3393720" y="3421080"/>
            <a:chExt cx="4079160" cy="2905200"/>
          </a:xfrm>
        </p:grpSpPr>
        <p:grpSp>
          <p:nvGrpSpPr>
            <p:cNvPr id="617" name="Group 12"/>
            <p:cNvGrpSpPr/>
            <p:nvPr/>
          </p:nvGrpSpPr>
          <p:grpSpPr>
            <a:xfrm>
              <a:off x="4513680" y="3421080"/>
              <a:ext cx="2959200" cy="2872800"/>
              <a:chOff x="4513680" y="3421080"/>
              <a:chExt cx="2959200" cy="2872800"/>
            </a:xfrm>
          </p:grpSpPr>
          <p:pic>
            <p:nvPicPr>
              <p:cNvPr id="618" name="Picture 5" descr="_x000b_11_15_U.jpg                                                    00019A44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4687920" y="3549600"/>
                <a:ext cx="2744640" cy="259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9" name="Text Box 6"/>
              <p:cNvSpPr/>
              <p:nvPr/>
            </p:nvSpPr>
            <p:spPr>
              <a:xfrm>
                <a:off x="4976280" y="3421080"/>
                <a:ext cx="1029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ly chromosom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Text Box 7"/>
              <p:cNvSpPr/>
              <p:nvPr/>
            </p:nvSpPr>
            <p:spPr>
              <a:xfrm>
                <a:off x="6003360" y="3425760"/>
                <a:ext cx="12780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use chromosom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Text Box 8"/>
              <p:cNvSpPr/>
              <p:nvPr/>
            </p:nvSpPr>
            <p:spPr>
              <a:xfrm>
                <a:off x="4513680" y="4871880"/>
                <a:ext cx="1529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ruit fly embryo (10 hours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 Box 9"/>
              <p:cNvSpPr/>
              <p:nvPr/>
            </p:nvSpPr>
            <p:spPr>
              <a:xfrm>
                <a:off x="6021000" y="4881600"/>
                <a:ext cx="1451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use embryo (12 days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Text Box 10"/>
              <p:cNvSpPr/>
              <p:nvPr/>
            </p:nvSpPr>
            <p:spPr>
              <a:xfrm>
                <a:off x="5076000" y="6060960"/>
                <a:ext cx="81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dult fruit fl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Text Box 11"/>
              <p:cNvSpPr/>
              <p:nvPr/>
            </p:nvSpPr>
            <p:spPr>
              <a:xfrm>
                <a:off x="6453360" y="6062760"/>
                <a:ext cx="819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dult mous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Text Box 13"/>
            <p:cNvSpPr/>
            <p:nvPr/>
          </p:nvSpPr>
          <p:spPr>
            <a:xfrm>
              <a:off x="3393720" y="60498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THE GENETIC BASIS OF CANCER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16 Cancer results from mutations in genes that control cell divi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44928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ncer cells, which divide uncontrollab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96920" indent="-53352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Result from mutations in genes whose protein products affect the cell cyc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roto-Oncogen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2256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normal gene that has the potential to become an oncogene is called a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to-oncogen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2256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mutation can change a proto-oncogene (a normal gene that promotes cell division)into an oncogene, which causes cells to divide excessive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2256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utations that produce most types of cancer occur in somatic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20"/>
          <p:cNvGrpSpPr/>
          <p:nvPr/>
        </p:nvGrpSpPr>
        <p:grpSpPr>
          <a:xfrm>
            <a:off x="4325400" y="3662280"/>
            <a:ext cx="4080600" cy="2710080"/>
            <a:chOff x="4325400" y="3662280"/>
            <a:chExt cx="4080600" cy="2710080"/>
          </a:xfrm>
        </p:grpSpPr>
        <p:grpSp>
          <p:nvGrpSpPr>
            <p:cNvPr id="632" name="Group 18"/>
            <p:cNvGrpSpPr/>
            <p:nvPr/>
          </p:nvGrpSpPr>
          <p:grpSpPr>
            <a:xfrm>
              <a:off x="4325400" y="3662280"/>
              <a:ext cx="4080600" cy="2614680"/>
              <a:chOff x="4325400" y="3662280"/>
              <a:chExt cx="4080600" cy="2614680"/>
            </a:xfrm>
          </p:grpSpPr>
          <p:pic>
            <p:nvPicPr>
              <p:cNvPr id="633" name="Picture 5" descr="_x000c_11_16a_U.jpg                                                   0051B389_x0003_203                            BE741D4F:"/>
              <p:cNvPicPr/>
              <p:nvPr/>
            </p:nvPicPr>
            <p:blipFill>
              <a:blip r:embed="rId1"/>
              <a:stretch/>
            </p:blipFill>
            <p:spPr>
              <a:xfrm>
                <a:off x="4519800" y="3770280"/>
                <a:ext cx="3822480" cy="225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4" name="Text Box 6"/>
              <p:cNvSpPr/>
              <p:nvPr/>
            </p:nvSpPr>
            <p:spPr>
              <a:xfrm>
                <a:off x="5953680" y="3662280"/>
                <a:ext cx="1148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o-oncogene DN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"/>
              <p:cNvSpPr/>
              <p:nvPr/>
            </p:nvSpPr>
            <p:spPr>
              <a:xfrm>
                <a:off x="4699080" y="4281480"/>
                <a:ext cx="86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utation withi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he gen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Text Box 8"/>
              <p:cNvSpPr/>
              <p:nvPr/>
            </p:nvSpPr>
            <p:spPr>
              <a:xfrm>
                <a:off x="6053760" y="4281480"/>
                <a:ext cx="85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ultiple copies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 the gen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Text Box 9"/>
              <p:cNvSpPr/>
              <p:nvPr/>
            </p:nvSpPr>
            <p:spPr>
              <a:xfrm>
                <a:off x="7364160" y="4271760"/>
                <a:ext cx="1041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ene moved to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w DNA locus,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nder new contro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Text Box 10"/>
              <p:cNvSpPr/>
              <p:nvPr/>
            </p:nvSpPr>
            <p:spPr>
              <a:xfrm>
                <a:off x="4687920" y="5135400"/>
                <a:ext cx="7110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ncoge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AutoShape 11"/>
              <p:cNvSpPr/>
              <p:nvPr/>
            </p:nvSpPr>
            <p:spPr>
              <a:xfrm flipV="1" rot="16200000">
                <a:off x="4971960" y="4844160"/>
                <a:ext cx="122040" cy="452520"/>
              </a:xfrm>
              <a:custGeom>
                <a:avLst/>
                <a:gdLst>
                  <a:gd name="textAreaLeft" fmla="*/ 78120 w 122040"/>
                  <a:gd name="textAreaRight" fmla="*/ 122040 w 122040"/>
                  <a:gd name="textAreaTop" fmla="*/ 11520 h 452520"/>
                  <a:gd name="textAreaBottom" fmla="*/ 441000 h 452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8777"/>
                    </a:lnTo>
                    <a:cubicBezTo>
                      <a:pt x="10800" y="9677"/>
                      <a:pt x="5400" y="10577"/>
                      <a:pt x="0" y="10577"/>
                    </a:cubicBezTo>
                    <a:cubicBezTo>
                      <a:pt x="5400" y="10577"/>
                      <a:pt x="10800" y="11477"/>
                      <a:pt x="10800" y="12377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2"/>
              <p:cNvSpPr/>
              <p:nvPr/>
            </p:nvSpPr>
            <p:spPr>
              <a:xfrm>
                <a:off x="5038920" y="5132160"/>
                <a:ext cx="0" cy="49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Text Box 13"/>
              <p:cNvSpPr/>
              <p:nvPr/>
            </p:nvSpPr>
            <p:spPr>
              <a:xfrm>
                <a:off x="6736320" y="5108400"/>
                <a:ext cx="819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w promot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4"/>
              <p:cNvSpPr/>
              <p:nvPr/>
            </p:nvSpPr>
            <p:spPr>
              <a:xfrm flipH="1">
                <a:off x="7510320" y="4975200"/>
                <a:ext cx="228600" cy="20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 Box 15"/>
              <p:cNvSpPr/>
              <p:nvPr/>
            </p:nvSpPr>
            <p:spPr>
              <a:xfrm>
                <a:off x="4325400" y="5452920"/>
                <a:ext cx="7203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yperactive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rowth-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imulating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ein i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rmal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mou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16"/>
              <p:cNvSpPr/>
              <p:nvPr/>
            </p:nvSpPr>
            <p:spPr>
              <a:xfrm>
                <a:off x="5572440" y="5449680"/>
                <a:ext cx="875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rmal growth-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imulating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ei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 exce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Text Box 17"/>
              <p:cNvSpPr/>
              <p:nvPr/>
            </p:nvSpPr>
            <p:spPr>
              <a:xfrm>
                <a:off x="7059960" y="5437080"/>
                <a:ext cx="875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rmal growth-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imulating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ei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 exce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Rectangle 19"/>
            <p:cNvSpPr/>
            <p:nvPr/>
          </p:nvSpPr>
          <p:spPr>
            <a:xfrm>
              <a:off x="5848200" y="609588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16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304920" y="685440"/>
            <a:ext cx="853416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Tumor-Suppressor Ge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tations that inactivate tumor suppressor gen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ve similar effects as oncoge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16"/>
          <p:cNvGrpSpPr/>
          <p:nvPr/>
        </p:nvGrpSpPr>
        <p:grpSpPr>
          <a:xfrm>
            <a:off x="1518840" y="2957400"/>
            <a:ext cx="5959800" cy="3419640"/>
            <a:chOff x="1518840" y="2957400"/>
            <a:chExt cx="5959800" cy="3419640"/>
          </a:xfrm>
        </p:grpSpPr>
        <p:grpSp>
          <p:nvGrpSpPr>
            <p:cNvPr id="650" name="Group 14"/>
            <p:cNvGrpSpPr/>
            <p:nvPr/>
          </p:nvGrpSpPr>
          <p:grpSpPr>
            <a:xfrm>
              <a:off x="2702160" y="2957400"/>
              <a:ext cx="4776480" cy="3419640"/>
              <a:chOff x="2702160" y="2957400"/>
              <a:chExt cx="4776480" cy="3419640"/>
            </a:xfrm>
          </p:grpSpPr>
          <p:pic>
            <p:nvPicPr>
              <p:cNvPr id="651" name="Picture 5" descr="_x000c_11_16b_U.jpg                                                   0051B389_x0003_203                            BE741D4F:"/>
              <p:cNvPicPr/>
              <p:nvPr/>
            </p:nvPicPr>
            <p:blipFill>
              <a:blip r:embed="rId1"/>
              <a:stretch/>
            </p:blipFill>
            <p:spPr>
              <a:xfrm>
                <a:off x="2702160" y="3271680"/>
                <a:ext cx="4776480" cy="310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Text Box 6"/>
              <p:cNvSpPr/>
              <p:nvPr/>
            </p:nvSpPr>
            <p:spPr>
              <a:xfrm>
                <a:off x="2866680" y="2968560"/>
                <a:ext cx="1407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umor-suppressor ge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AutoShape 7"/>
              <p:cNvSpPr/>
              <p:nvPr/>
            </p:nvSpPr>
            <p:spPr>
              <a:xfrm rot="5400000">
                <a:off x="3492720" y="2797920"/>
                <a:ext cx="154080" cy="888840"/>
              </a:xfrm>
              <a:custGeom>
                <a:avLst/>
                <a:gdLst>
                  <a:gd name="textAreaLeft" fmla="*/ 98640 w 154080"/>
                  <a:gd name="textAreaRight" fmla="*/ 154440 w 154080"/>
                  <a:gd name="textAreaTop" fmla="*/ 23040 h 888840"/>
                  <a:gd name="textAreaBottom" fmla="*/ 865800 h 888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Text Box 8"/>
              <p:cNvSpPr/>
              <p:nvPr/>
            </p:nvSpPr>
            <p:spPr>
              <a:xfrm>
                <a:off x="5326560" y="2957400"/>
                <a:ext cx="18158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utated tumor-suppressor ge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AutoShape 9"/>
              <p:cNvSpPr/>
              <p:nvPr/>
            </p:nvSpPr>
            <p:spPr>
              <a:xfrm rot="5400000">
                <a:off x="6117480" y="2794680"/>
                <a:ext cx="154080" cy="889200"/>
              </a:xfrm>
              <a:custGeom>
                <a:avLst/>
                <a:gdLst>
                  <a:gd name="textAreaLeft" fmla="*/ 98640 w 154080"/>
                  <a:gd name="textAreaRight" fmla="*/ 154440 w 154080"/>
                  <a:gd name="textAreaTop" fmla="*/ 23040 h 889200"/>
                  <a:gd name="textAreaBottom" fmla="*/ 866160 h 88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10"/>
              <p:cNvSpPr/>
              <p:nvPr/>
            </p:nvSpPr>
            <p:spPr>
              <a:xfrm>
                <a:off x="3817440" y="4108320"/>
                <a:ext cx="636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ormal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-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nhibiting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tei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Text Box 11"/>
              <p:cNvSpPr/>
              <p:nvPr/>
            </p:nvSpPr>
            <p:spPr>
              <a:xfrm>
                <a:off x="3820320" y="5227560"/>
                <a:ext cx="8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ell division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nder 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Text Box 12"/>
              <p:cNvSpPr/>
              <p:nvPr/>
            </p:nvSpPr>
            <p:spPr>
              <a:xfrm>
                <a:off x="6438960" y="4111560"/>
                <a:ext cx="9306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efective,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onfunctioning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tei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Text Box 13"/>
              <p:cNvSpPr/>
              <p:nvPr/>
            </p:nvSpPr>
            <p:spPr>
              <a:xfrm>
                <a:off x="6401880" y="5224320"/>
                <a:ext cx="98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ell division not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nder 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0" name="Text Box 15"/>
            <p:cNvSpPr/>
            <p:nvPr/>
          </p:nvSpPr>
          <p:spPr>
            <a:xfrm>
              <a:off x="1518840" y="59641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16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304920" y="685800"/>
            <a:ext cx="85341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17 Oncogene proteins and faulty tumor-suppressor proteins can interfere with normal signal transduction pathway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304920" y="685800"/>
            <a:ext cx="8534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01200" indent="-31464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cogene 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705320" indent="-50112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 stimulate signal transduction pathway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27"/>
          <p:cNvGrpSpPr/>
          <p:nvPr/>
        </p:nvGrpSpPr>
        <p:grpSpPr>
          <a:xfrm>
            <a:off x="2307960" y="2008080"/>
            <a:ext cx="4285080" cy="4443480"/>
            <a:chOff x="2307960" y="2008080"/>
            <a:chExt cx="4285080" cy="4443480"/>
          </a:xfrm>
        </p:grpSpPr>
        <p:grpSp>
          <p:nvGrpSpPr>
            <p:cNvPr id="666" name="Group 25"/>
            <p:cNvGrpSpPr/>
            <p:nvPr/>
          </p:nvGrpSpPr>
          <p:grpSpPr>
            <a:xfrm>
              <a:off x="3462480" y="2008080"/>
              <a:ext cx="3130560" cy="4443480"/>
              <a:chOff x="3462480" y="2008080"/>
              <a:chExt cx="3130560" cy="4443480"/>
            </a:xfrm>
          </p:grpSpPr>
          <p:pic>
            <p:nvPicPr>
              <p:cNvPr id="667" name="Picture 6" descr="_x000c_11_17a_U.jpg                                                   0051B389_x0003_203                            BE741D4F:"/>
              <p:cNvPicPr/>
              <p:nvPr/>
            </p:nvPicPr>
            <p:blipFill>
              <a:blip r:embed="rId1"/>
              <a:stretch/>
            </p:blipFill>
            <p:spPr>
              <a:xfrm>
                <a:off x="3462480" y="2008080"/>
                <a:ext cx="3130560" cy="444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8" name="Line 7"/>
              <p:cNvSpPr/>
              <p:nvPr/>
            </p:nvSpPr>
            <p:spPr>
              <a:xfrm flipH="1">
                <a:off x="4457880" y="2284200"/>
                <a:ext cx="285840" cy="114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Text Box 8"/>
              <p:cNvSpPr/>
              <p:nvPr/>
            </p:nvSpPr>
            <p:spPr>
              <a:xfrm>
                <a:off x="4044600" y="2165400"/>
                <a:ext cx="537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fact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Text Box 9"/>
              <p:cNvSpPr/>
              <p:nvPr/>
            </p:nvSpPr>
            <p:spPr>
              <a:xfrm>
                <a:off x="3593880" y="2655720"/>
                <a:ext cx="657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arget cel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Text Box 10"/>
              <p:cNvSpPr/>
              <p:nvPr/>
            </p:nvSpPr>
            <p:spPr>
              <a:xfrm>
                <a:off x="5355360" y="2496960"/>
                <a:ext cx="59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cept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Text Box 11"/>
              <p:cNvSpPr/>
              <p:nvPr/>
            </p:nvSpPr>
            <p:spPr>
              <a:xfrm>
                <a:off x="5662800" y="2849400"/>
                <a:ext cx="8316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yperactive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relay protei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roduct of</a:t>
                </a:r>
                <a:br>
                  <a:rPr sz="800"/>
                </a:b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ras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oncogene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ssues signals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n its ow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12"/>
              <p:cNvSpPr/>
              <p:nvPr/>
            </p:nvSpPr>
            <p:spPr>
              <a:xfrm flipV="1">
                <a:off x="4830840" y="2607840"/>
                <a:ext cx="574560" cy="21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13"/>
              <p:cNvSpPr/>
              <p:nvPr/>
            </p:nvSpPr>
            <p:spPr>
              <a:xfrm flipH="1">
                <a:off x="4335480" y="3068640"/>
                <a:ext cx="596880" cy="122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Text Box 14"/>
              <p:cNvSpPr/>
              <p:nvPr/>
            </p:nvSpPr>
            <p:spPr>
              <a:xfrm>
                <a:off x="3678480" y="2962080"/>
                <a:ext cx="877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rmal product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 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ras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gen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15"/>
              <p:cNvSpPr/>
              <p:nvPr/>
            </p:nvSpPr>
            <p:spPr>
              <a:xfrm flipH="1">
                <a:off x="4187520" y="3081240"/>
                <a:ext cx="793800" cy="420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16"/>
              <p:cNvSpPr/>
              <p:nvPr/>
            </p:nvSpPr>
            <p:spPr>
              <a:xfrm flipH="1" flipV="1">
                <a:off x="4190760" y="3494160"/>
                <a:ext cx="515880" cy="303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17"/>
              <p:cNvSpPr/>
              <p:nvPr/>
            </p:nvSpPr>
            <p:spPr>
              <a:xfrm flipH="1">
                <a:off x="4203360" y="3460680"/>
                <a:ext cx="412920" cy="41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Text Box 18"/>
              <p:cNvSpPr/>
              <p:nvPr/>
            </p:nvSpPr>
            <p:spPr>
              <a:xfrm>
                <a:off x="3692880" y="3259080"/>
                <a:ext cx="54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lay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ein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Text Box 19"/>
              <p:cNvSpPr/>
              <p:nvPr/>
            </p:nvSpPr>
            <p:spPr>
              <a:xfrm>
                <a:off x="3675960" y="4178160"/>
                <a:ext cx="1055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cription factor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activated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Text Box 20"/>
              <p:cNvSpPr/>
              <p:nvPr/>
            </p:nvSpPr>
            <p:spPr>
              <a:xfrm>
                <a:off x="3870360" y="5021280"/>
                <a:ext cx="395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N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Text Box 21"/>
              <p:cNvSpPr/>
              <p:nvPr/>
            </p:nvSpPr>
            <p:spPr>
              <a:xfrm>
                <a:off x="3865680" y="5256000"/>
                <a:ext cx="549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ucleu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Text Box 22"/>
              <p:cNvSpPr/>
              <p:nvPr/>
            </p:nvSpPr>
            <p:spPr>
              <a:xfrm>
                <a:off x="4798800" y="5261040"/>
                <a:ext cx="770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Text Box 23"/>
              <p:cNvSpPr/>
              <p:nvPr/>
            </p:nvSpPr>
            <p:spPr>
              <a:xfrm>
                <a:off x="4800960" y="5802120"/>
                <a:ext cx="685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Text Box 24"/>
              <p:cNvSpPr/>
              <p:nvPr/>
            </p:nvSpPr>
            <p:spPr>
              <a:xfrm>
                <a:off x="4016520" y="5821200"/>
                <a:ext cx="704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ein that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timulates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ell div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Text Box 26"/>
            <p:cNvSpPr/>
            <p:nvPr/>
          </p:nvSpPr>
          <p:spPr>
            <a:xfrm>
              <a:off x="2307960" y="610380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17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umor-suppressor protei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an inhibit signal transduction pathway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26"/>
          <p:cNvGrpSpPr/>
          <p:nvPr/>
        </p:nvGrpSpPr>
        <p:grpSpPr>
          <a:xfrm>
            <a:off x="2244240" y="2044800"/>
            <a:ext cx="4219920" cy="4387680"/>
            <a:chOff x="2244240" y="2044800"/>
            <a:chExt cx="4219920" cy="4387680"/>
          </a:xfrm>
        </p:grpSpPr>
        <p:grpSp>
          <p:nvGrpSpPr>
            <p:cNvPr id="690" name="Group 24"/>
            <p:cNvGrpSpPr/>
            <p:nvPr/>
          </p:nvGrpSpPr>
          <p:grpSpPr>
            <a:xfrm>
              <a:off x="3355920" y="2044800"/>
              <a:ext cx="3108240" cy="4387680"/>
              <a:chOff x="3355920" y="2044800"/>
              <a:chExt cx="3108240" cy="4387680"/>
            </a:xfrm>
          </p:grpSpPr>
          <p:pic>
            <p:nvPicPr>
              <p:cNvPr id="691" name="Picture 6" descr="_x000c_11_17b_U.jpg                                                   0051B389_x0003_203                            BE741D4F:"/>
              <p:cNvPicPr/>
              <p:nvPr/>
            </p:nvPicPr>
            <p:blipFill>
              <a:blip r:embed="rId1"/>
              <a:stretch/>
            </p:blipFill>
            <p:spPr>
              <a:xfrm>
                <a:off x="3355920" y="2044800"/>
                <a:ext cx="3108240" cy="438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2" name="Text Box 7"/>
              <p:cNvSpPr/>
              <p:nvPr/>
            </p:nvSpPr>
            <p:spPr>
              <a:xfrm>
                <a:off x="3457800" y="2224080"/>
                <a:ext cx="103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Growth-inhibiting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fact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Text Box 8"/>
              <p:cNvSpPr/>
              <p:nvPr/>
            </p:nvSpPr>
            <p:spPr>
              <a:xfrm>
                <a:off x="5094720" y="2496960"/>
                <a:ext cx="59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cept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Text Box 9"/>
              <p:cNvSpPr/>
              <p:nvPr/>
            </p:nvSpPr>
            <p:spPr>
              <a:xfrm>
                <a:off x="4887360" y="3446280"/>
                <a:ext cx="1518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Nonfunctional transcription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factor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roduct of faulty 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p53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umor-suppressor gen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10"/>
              <p:cNvSpPr/>
              <p:nvPr/>
            </p:nvSpPr>
            <p:spPr>
              <a:xfrm flipV="1">
                <a:off x="4609800" y="2604600"/>
                <a:ext cx="536760" cy="185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11"/>
              <p:cNvSpPr/>
              <p:nvPr/>
            </p:nvSpPr>
            <p:spPr>
              <a:xfrm flipH="1">
                <a:off x="3973320" y="3082680"/>
                <a:ext cx="784080" cy="41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12"/>
              <p:cNvSpPr/>
              <p:nvPr/>
            </p:nvSpPr>
            <p:spPr>
              <a:xfrm flipH="1" flipV="1">
                <a:off x="3972960" y="3501720"/>
                <a:ext cx="514440" cy="288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13"/>
              <p:cNvSpPr/>
              <p:nvPr/>
            </p:nvSpPr>
            <p:spPr>
              <a:xfrm flipH="1">
                <a:off x="3993480" y="3459240"/>
                <a:ext cx="406440" cy="40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Text Box 14"/>
              <p:cNvSpPr/>
              <p:nvPr/>
            </p:nvSpPr>
            <p:spPr>
              <a:xfrm>
                <a:off x="3476880" y="3297240"/>
                <a:ext cx="54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lay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ein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Text Box 15"/>
              <p:cNvSpPr/>
              <p:nvPr/>
            </p:nvSpPr>
            <p:spPr>
              <a:xfrm>
                <a:off x="3424680" y="4132080"/>
                <a:ext cx="1055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cription factor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activated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Text Box 16"/>
              <p:cNvSpPr/>
              <p:nvPr/>
            </p:nvSpPr>
            <p:spPr>
              <a:xfrm>
                <a:off x="4527000" y="5303880"/>
                <a:ext cx="770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Text Box 17"/>
              <p:cNvSpPr/>
              <p:nvPr/>
            </p:nvSpPr>
            <p:spPr>
              <a:xfrm>
                <a:off x="4524480" y="5740200"/>
                <a:ext cx="685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Text Box 18"/>
              <p:cNvSpPr/>
              <p:nvPr/>
            </p:nvSpPr>
            <p:spPr>
              <a:xfrm>
                <a:off x="3717720" y="5857920"/>
                <a:ext cx="704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ein that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nhibits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ell div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19"/>
              <p:cNvSpPr/>
              <p:nvPr/>
            </p:nvSpPr>
            <p:spPr>
              <a:xfrm flipH="1">
                <a:off x="4406400" y="2314440"/>
                <a:ext cx="120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Text Box 20"/>
              <p:cNvSpPr/>
              <p:nvPr/>
            </p:nvSpPr>
            <p:spPr>
              <a:xfrm>
                <a:off x="5142960" y="3817800"/>
                <a:ext cx="8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annot trigger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Text Box 21"/>
              <p:cNvSpPr/>
              <p:nvPr/>
            </p:nvSpPr>
            <p:spPr>
              <a:xfrm>
                <a:off x="4874400" y="5856120"/>
                <a:ext cx="839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ein absent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cell divisio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t inhibited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Line 22"/>
              <p:cNvSpPr/>
              <p:nvPr/>
            </p:nvSpPr>
            <p:spPr>
              <a:xfrm flipV="1">
                <a:off x="4582800" y="4249800"/>
                <a:ext cx="243000" cy="2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Text Box 23"/>
              <p:cNvSpPr/>
              <p:nvPr/>
            </p:nvSpPr>
            <p:spPr>
              <a:xfrm>
                <a:off x="4784760" y="4132080"/>
                <a:ext cx="877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rmal produc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 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p53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gen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Text Box 25"/>
            <p:cNvSpPr/>
            <p:nvPr/>
          </p:nvSpPr>
          <p:spPr>
            <a:xfrm>
              <a:off x="2244240" y="607860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17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0080" y="7045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What is the purpose of gene regulation?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ontrol of gene expression makes it possible for cells to produce specific kinds of proteins when and where they are need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turning on and off of transcription is the main way that gene expression is regulated in all organis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18 Multiple genetic changes underlie the development of canc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ncers result from a series of genetic changes in a cell line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lon canc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Develops in a stepwise fash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6" descr="_x000c_11_18a_U.jpg                                                   0051B389_x0003_203                            BE741D4F:"/>
          <p:cNvPicPr/>
          <p:nvPr/>
        </p:nvPicPr>
        <p:blipFill>
          <a:blip r:embed="rId1"/>
          <a:stretch/>
        </p:blipFill>
        <p:spPr>
          <a:xfrm>
            <a:off x="1246320" y="2467080"/>
            <a:ext cx="7313400" cy="2504880"/>
          </a:xfrm>
          <a:prstGeom prst="rect">
            <a:avLst/>
          </a:prstGeom>
          <a:ln w="0">
            <a:noFill/>
          </a:ln>
        </p:spPr>
      </p:pic>
      <p:sp>
        <p:nvSpPr>
          <p:cNvPr id="715" name="Line 7"/>
          <p:cNvSpPr/>
          <p:nvPr/>
        </p:nvSpPr>
        <p:spPr>
          <a:xfrm flipV="1">
            <a:off x="3745080" y="3065040"/>
            <a:ext cx="31428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8"/>
          <p:cNvSpPr/>
          <p:nvPr/>
        </p:nvSpPr>
        <p:spPr>
          <a:xfrm>
            <a:off x="3545280" y="27939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n 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2"/>
          <p:cNvSpPr/>
          <p:nvPr/>
        </p:nvSpPr>
        <p:spPr>
          <a:xfrm>
            <a:off x="493560" y="4818240"/>
            <a:ext cx="96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llula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6"/>
          <p:cNvSpPr/>
          <p:nvPr/>
        </p:nvSpPr>
        <p:spPr>
          <a:xfrm>
            <a:off x="493560" y="5398920"/>
            <a:ext cx="96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N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26"/>
          <p:cNvGrpSpPr/>
          <p:nvPr/>
        </p:nvGrpSpPr>
        <p:grpSpPr>
          <a:xfrm>
            <a:off x="1609920" y="4476600"/>
            <a:ext cx="1095120" cy="1442520"/>
            <a:chOff x="1609920" y="4476600"/>
            <a:chExt cx="1095120" cy="1442520"/>
          </a:xfrm>
        </p:grpSpPr>
        <p:grpSp>
          <p:nvGrpSpPr>
            <p:cNvPr id="720" name="Group 23"/>
            <p:cNvGrpSpPr/>
            <p:nvPr/>
          </p:nvGrpSpPr>
          <p:grpSpPr>
            <a:xfrm>
              <a:off x="1609920" y="4476600"/>
              <a:ext cx="1095120" cy="861840"/>
              <a:chOff x="1609920" y="4476600"/>
              <a:chExt cx="1095120" cy="861840"/>
            </a:xfrm>
          </p:grpSpPr>
          <p:sp>
            <p:nvSpPr>
              <p:cNvPr id="721" name="Text Box 9"/>
              <p:cNvSpPr/>
              <p:nvPr/>
            </p:nvSpPr>
            <p:spPr>
              <a:xfrm>
                <a:off x="1982880" y="4476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Text Box 13"/>
              <p:cNvSpPr/>
              <p:nvPr/>
            </p:nvSpPr>
            <p:spPr>
              <a:xfrm>
                <a:off x="1609920" y="4818240"/>
                <a:ext cx="1095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creased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ell divis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Text Box 17"/>
            <p:cNvSpPr/>
            <p:nvPr/>
          </p:nvSpPr>
          <p:spPr>
            <a:xfrm>
              <a:off x="1610280" y="539892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cogen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a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Group 27"/>
          <p:cNvGrpSpPr/>
          <p:nvPr/>
        </p:nvGrpSpPr>
        <p:grpSpPr>
          <a:xfrm>
            <a:off x="3714840" y="4473720"/>
            <a:ext cx="1809720" cy="1440720"/>
            <a:chOff x="3714840" y="4473720"/>
            <a:chExt cx="1809720" cy="1440720"/>
          </a:xfrm>
        </p:grpSpPr>
        <p:grpSp>
          <p:nvGrpSpPr>
            <p:cNvPr id="725" name="Group 24"/>
            <p:cNvGrpSpPr/>
            <p:nvPr/>
          </p:nvGrpSpPr>
          <p:grpSpPr>
            <a:xfrm>
              <a:off x="3724200" y="4473720"/>
              <a:ext cx="1463760" cy="656280"/>
              <a:chOff x="3724200" y="4473720"/>
              <a:chExt cx="1463760" cy="656280"/>
            </a:xfrm>
          </p:grpSpPr>
          <p:sp>
            <p:nvSpPr>
              <p:cNvPr id="726" name="Text Box 10"/>
              <p:cNvSpPr/>
              <p:nvPr/>
            </p:nvSpPr>
            <p:spPr>
              <a:xfrm>
                <a:off x="4341960" y="44737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Text Box 14"/>
              <p:cNvSpPr/>
              <p:nvPr/>
            </p:nvSpPr>
            <p:spPr>
              <a:xfrm>
                <a:off x="3724200" y="4822920"/>
                <a:ext cx="1463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rowth of poly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8" name="Text Box 18"/>
            <p:cNvSpPr/>
            <p:nvPr/>
          </p:nvSpPr>
          <p:spPr>
            <a:xfrm>
              <a:off x="3714840" y="5394240"/>
              <a:ext cx="180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umor-suppresso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ne inactiva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28"/>
          <p:cNvGrpSpPr/>
          <p:nvPr/>
        </p:nvGrpSpPr>
        <p:grpSpPr>
          <a:xfrm>
            <a:off x="6441120" y="4486320"/>
            <a:ext cx="1778040" cy="1641240"/>
            <a:chOff x="6441120" y="4486320"/>
            <a:chExt cx="1778040" cy="1641240"/>
          </a:xfrm>
        </p:grpSpPr>
        <p:grpSp>
          <p:nvGrpSpPr>
            <p:cNvPr id="730" name="Group 25"/>
            <p:cNvGrpSpPr/>
            <p:nvPr/>
          </p:nvGrpSpPr>
          <p:grpSpPr>
            <a:xfrm>
              <a:off x="6441120" y="4486320"/>
              <a:ext cx="1778040" cy="856800"/>
              <a:chOff x="6441120" y="4486320"/>
              <a:chExt cx="1778040" cy="856800"/>
            </a:xfrm>
          </p:grpSpPr>
          <p:sp>
            <p:nvSpPr>
              <p:cNvPr id="731" name="Text Box 11"/>
              <p:cNvSpPr/>
              <p:nvPr/>
            </p:nvSpPr>
            <p:spPr>
              <a:xfrm>
                <a:off x="7101000" y="4486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Text Box 15"/>
              <p:cNvSpPr/>
              <p:nvPr/>
            </p:nvSpPr>
            <p:spPr>
              <a:xfrm>
                <a:off x="6441120" y="4822920"/>
                <a:ext cx="1778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rowth of malignant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umor (carcinoma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3" name="Text Box 19"/>
            <p:cNvSpPr/>
            <p:nvPr/>
          </p:nvSpPr>
          <p:spPr>
            <a:xfrm>
              <a:off x="6441120" y="5394240"/>
              <a:ext cx="1511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cond tumor-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ppressor gen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activa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Text Box 20"/>
          <p:cNvSpPr/>
          <p:nvPr/>
        </p:nvSpPr>
        <p:spPr>
          <a:xfrm>
            <a:off x="3504960" y="598968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1.18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umulation of mut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an lead to canc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19"/>
          <p:cNvGrpSpPr/>
          <p:nvPr/>
        </p:nvGrpSpPr>
        <p:grpSpPr>
          <a:xfrm>
            <a:off x="882720" y="2386080"/>
            <a:ext cx="7313400" cy="3651480"/>
            <a:chOff x="882720" y="2386080"/>
            <a:chExt cx="7313400" cy="3651480"/>
          </a:xfrm>
        </p:grpSpPr>
        <p:grpSp>
          <p:nvGrpSpPr>
            <p:cNvPr id="738" name="Group 5"/>
            <p:cNvGrpSpPr/>
            <p:nvPr/>
          </p:nvGrpSpPr>
          <p:grpSpPr>
            <a:xfrm>
              <a:off x="882720" y="2386080"/>
              <a:ext cx="7313400" cy="3501720"/>
              <a:chOff x="882720" y="2386080"/>
              <a:chExt cx="7313400" cy="3501720"/>
            </a:xfrm>
          </p:grpSpPr>
          <p:pic>
            <p:nvPicPr>
              <p:cNvPr id="739" name="Picture 6" descr="_x000c_11_18b_U.jpg                                                   0051B389_x0003_203                            BE741D4F:"/>
              <p:cNvPicPr/>
              <p:nvPr/>
            </p:nvPicPr>
            <p:blipFill>
              <a:blip r:embed="rId1"/>
              <a:stretch/>
            </p:blipFill>
            <p:spPr>
              <a:xfrm>
                <a:off x="882720" y="2386080"/>
                <a:ext cx="7313400" cy="312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0" name="Text Box 7"/>
              <p:cNvSpPr/>
              <p:nvPr/>
            </p:nvSpPr>
            <p:spPr>
              <a:xfrm>
                <a:off x="944640" y="3279960"/>
                <a:ext cx="150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hromosom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Text Box 8"/>
              <p:cNvSpPr/>
              <p:nvPr/>
            </p:nvSpPr>
            <p:spPr>
              <a:xfrm>
                <a:off x="2595600" y="3576600"/>
                <a:ext cx="959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ut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Text Box 9"/>
              <p:cNvSpPr/>
              <p:nvPr/>
            </p:nvSpPr>
            <p:spPr>
              <a:xfrm>
                <a:off x="2928600" y="3291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Text Box 10"/>
              <p:cNvSpPr/>
              <p:nvPr/>
            </p:nvSpPr>
            <p:spPr>
              <a:xfrm>
                <a:off x="4400280" y="3294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Text Box 11"/>
              <p:cNvSpPr/>
              <p:nvPr/>
            </p:nvSpPr>
            <p:spPr>
              <a:xfrm>
                <a:off x="5924160" y="3301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Text Box 12"/>
              <p:cNvSpPr/>
              <p:nvPr/>
            </p:nvSpPr>
            <p:spPr>
              <a:xfrm>
                <a:off x="7354440" y="3294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Text Box 13"/>
              <p:cNvSpPr/>
              <p:nvPr/>
            </p:nvSpPr>
            <p:spPr>
              <a:xfrm>
                <a:off x="4038120" y="3573360"/>
                <a:ext cx="1061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ut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Text Box 14"/>
              <p:cNvSpPr/>
              <p:nvPr/>
            </p:nvSpPr>
            <p:spPr>
              <a:xfrm>
                <a:off x="5570280" y="3581640"/>
                <a:ext cx="1061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ut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15"/>
              <p:cNvSpPr/>
              <p:nvPr/>
            </p:nvSpPr>
            <p:spPr>
              <a:xfrm>
                <a:off x="7014960" y="3581640"/>
                <a:ext cx="1061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ut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Text Box 16"/>
              <p:cNvSpPr/>
              <p:nvPr/>
            </p:nvSpPr>
            <p:spPr>
              <a:xfrm>
                <a:off x="1223640" y="5303880"/>
                <a:ext cx="83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ormal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Text Box 17"/>
              <p:cNvSpPr/>
              <p:nvPr/>
            </p:nvSpPr>
            <p:spPr>
              <a:xfrm>
                <a:off x="6980760" y="5307120"/>
                <a:ext cx="1061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lignant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1" name="Text Box 18"/>
            <p:cNvSpPr/>
            <p:nvPr/>
          </p:nvSpPr>
          <p:spPr>
            <a:xfrm>
              <a:off x="3769920" y="576108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18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TALKING ABOUT SCIENCE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19 Mary-Claire King discusses mutations that cause breast canc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earchers have gained insight into the genetic basis of breast canc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y studying families in which a disease-predisposing mutation is inherited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7"/>
          <p:cNvGrpSpPr/>
          <p:nvPr/>
        </p:nvGrpSpPr>
        <p:grpSpPr>
          <a:xfrm>
            <a:off x="4447800" y="3971880"/>
            <a:ext cx="4172400" cy="2490840"/>
            <a:chOff x="4447800" y="3971880"/>
            <a:chExt cx="4172400" cy="2490840"/>
          </a:xfrm>
        </p:grpSpPr>
        <p:pic>
          <p:nvPicPr>
            <p:cNvPr id="756" name="Picture 5" descr="_x000b_11_19_U.jpg                                                    0051B358_x0003_203                            BE74600A:"/>
            <p:cNvPicPr/>
            <p:nvPr/>
          </p:nvPicPr>
          <p:blipFill>
            <a:blip r:embed="rId1"/>
            <a:stretch/>
          </p:blipFill>
          <p:spPr>
            <a:xfrm>
              <a:off x="5548320" y="3971880"/>
              <a:ext cx="3071880" cy="24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Text Box 6"/>
            <p:cNvSpPr/>
            <p:nvPr/>
          </p:nvSpPr>
          <p:spPr>
            <a:xfrm>
              <a:off x="4447800" y="616572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ONNECTION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20 Avoiding carcinogens can reduce the risk of canc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ucing exposure to carcinogens (which induce cancer-causing mutation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d making other lifestyle choices can help reduce cancer risk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ncer in the United St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7"/>
          <p:cNvGrpSpPr/>
          <p:nvPr/>
        </p:nvGrpSpPr>
        <p:grpSpPr>
          <a:xfrm>
            <a:off x="1926360" y="1397160"/>
            <a:ext cx="5388480" cy="5033880"/>
            <a:chOff x="1926360" y="1397160"/>
            <a:chExt cx="5388480" cy="5033880"/>
          </a:xfrm>
        </p:grpSpPr>
        <p:pic>
          <p:nvPicPr>
            <p:cNvPr id="764" name="Picture 5" descr="_x000b_11_20_T.jpg                                                    0051B36C_x0003_203                            BE74600A:"/>
            <p:cNvPicPr/>
            <p:nvPr/>
          </p:nvPicPr>
          <p:blipFill>
            <a:blip r:embed="rId1"/>
            <a:stretch/>
          </p:blipFill>
          <p:spPr>
            <a:xfrm>
              <a:off x="2758680" y="1397160"/>
              <a:ext cx="4556160" cy="50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6"/>
            <p:cNvSpPr/>
            <p:nvPr/>
          </p:nvSpPr>
          <p:spPr>
            <a:xfrm>
              <a:off x="1926360" y="5989680"/>
              <a:ext cx="100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ble 11.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28440" y="685800"/>
            <a:ext cx="791028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c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Oper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prokaryotes, genes for related enzy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re often controlled together in units called opero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gulatory proteins bind to control sequences in the D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d turn operons on or off in response to environmental chang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7" name="Group 35"/>
          <p:cNvGrpSpPr/>
          <p:nvPr/>
        </p:nvGrpSpPr>
        <p:grpSpPr>
          <a:xfrm>
            <a:off x="355680" y="254160"/>
            <a:ext cx="8458200" cy="6161040"/>
            <a:chOff x="355680" y="254160"/>
            <a:chExt cx="8458200" cy="6161040"/>
          </a:xfrm>
        </p:grpSpPr>
        <p:grpSp>
          <p:nvGrpSpPr>
            <p:cNvPr id="228" name="Group 34"/>
            <p:cNvGrpSpPr/>
            <p:nvPr/>
          </p:nvGrpSpPr>
          <p:grpSpPr>
            <a:xfrm>
              <a:off x="1709640" y="254160"/>
              <a:ext cx="7104240" cy="6135120"/>
              <a:chOff x="1709640" y="254160"/>
              <a:chExt cx="7104240" cy="6135120"/>
            </a:xfrm>
          </p:grpSpPr>
          <p:sp>
            <p:nvSpPr>
              <p:cNvPr id="229" name="FlagCount" hidden="1"/>
              <p:cNvSpPr/>
              <p:nvPr/>
            </p:nvSpPr>
            <p:spPr>
              <a:xfrm>
                <a:off x="8432640" y="254160"/>
                <a:ext cx="381240" cy="317520"/>
              </a:xfrm>
              <a:prstGeom prst="wedgeRoundRectCallout">
                <a:avLst>
                  <a:gd name="adj1" fmla="val -43518"/>
                  <a:gd name="adj2" fmla="val 70000"/>
                  <a:gd name="adj3" fmla="val 16667"/>
                </a:avLst>
              </a:prstGeom>
              <a:solidFill>
                <a:srgbClr val="53548a">
                  <a:alpha val="25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0" name="Picture 6" descr="_x000c_11_01b_U.jpg                                                   00019A44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3303720" y="3232080"/>
                <a:ext cx="3423960" cy="281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Text Box 7"/>
              <p:cNvSpPr/>
              <p:nvPr/>
            </p:nvSpPr>
            <p:spPr>
              <a:xfrm>
                <a:off x="2968560" y="3503520"/>
                <a:ext cx="395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N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8"/>
              <p:cNvSpPr/>
              <p:nvPr/>
            </p:nvSpPr>
            <p:spPr>
              <a:xfrm>
                <a:off x="2946960" y="3814920"/>
                <a:ext cx="48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RN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9"/>
              <p:cNvSpPr/>
              <p:nvPr/>
            </p:nvSpPr>
            <p:spPr>
              <a:xfrm>
                <a:off x="2962080" y="4971960"/>
                <a:ext cx="395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N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10"/>
              <p:cNvSpPr/>
              <p:nvPr/>
            </p:nvSpPr>
            <p:spPr>
              <a:xfrm>
                <a:off x="2937600" y="4157640"/>
                <a:ext cx="50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ei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11"/>
              <p:cNvSpPr/>
              <p:nvPr/>
            </p:nvSpPr>
            <p:spPr>
              <a:xfrm>
                <a:off x="2945520" y="5284800"/>
                <a:ext cx="48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RN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2"/>
              <p:cNvSpPr/>
              <p:nvPr/>
            </p:nvSpPr>
            <p:spPr>
              <a:xfrm>
                <a:off x="2939040" y="5616720"/>
                <a:ext cx="50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ei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13"/>
              <p:cNvSpPr/>
              <p:nvPr/>
            </p:nvSpPr>
            <p:spPr>
              <a:xfrm>
                <a:off x="2937240" y="5938920"/>
                <a:ext cx="538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actos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14"/>
              <p:cNvSpPr/>
              <p:nvPr/>
            </p:nvSpPr>
            <p:spPr>
              <a:xfrm>
                <a:off x="4179240" y="3151080"/>
                <a:ext cx="1029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moter Operat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5"/>
              <p:cNvSpPr/>
              <p:nvPr/>
            </p:nvSpPr>
            <p:spPr>
              <a:xfrm>
                <a:off x="5232960" y="3166920"/>
                <a:ext cx="1305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actose-utilization gen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utoShape 16"/>
              <p:cNvSpPr/>
              <p:nvPr/>
            </p:nvSpPr>
            <p:spPr>
              <a:xfrm rot="16612200">
                <a:off x="5646240" y="2695320"/>
                <a:ext cx="114480" cy="1419120"/>
              </a:xfrm>
              <a:custGeom>
                <a:avLst/>
                <a:gdLst>
                  <a:gd name="textAreaLeft" fmla="*/ 0 w 114480"/>
                  <a:gd name="textAreaRight" fmla="*/ 41400 w 114480"/>
                  <a:gd name="textAreaTop" fmla="*/ 7560 h 1419120"/>
                  <a:gd name="textAreaBottom" fmla="*/ 1411560 h 141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88"/>
                      <a:pt x="10800" y="375"/>
                    </a:cubicBezTo>
                    <a:lnTo>
                      <a:pt x="10800" y="10425"/>
                    </a:lnTo>
                    <a:cubicBezTo>
                      <a:pt x="10800" y="10613"/>
                      <a:pt x="16200" y="10800"/>
                      <a:pt x="21600" y="10800"/>
                    </a:cubicBezTo>
                    <a:cubicBezTo>
                      <a:pt x="16200" y="10800"/>
                      <a:pt x="10800" y="10988"/>
                      <a:pt x="10800" y="11175"/>
                    </a:cubicBezTo>
                    <a:lnTo>
                      <a:pt x="10800" y="21225"/>
                    </a:lnTo>
                    <a:cubicBezTo>
                      <a:pt x="10800" y="21413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17"/>
              <p:cNvSpPr/>
              <p:nvPr/>
            </p:nvSpPr>
            <p:spPr>
              <a:xfrm>
                <a:off x="4091040" y="402912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ctive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press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8"/>
              <p:cNvSpPr/>
              <p:nvPr/>
            </p:nvSpPr>
            <p:spPr>
              <a:xfrm>
                <a:off x="5542920" y="3983040"/>
                <a:ext cx="951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NA polymerase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annot attach to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mot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19"/>
              <p:cNvSpPr/>
              <p:nvPr/>
            </p:nvSpPr>
            <p:spPr>
              <a:xfrm>
                <a:off x="5321160" y="4003560"/>
                <a:ext cx="27324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20"/>
              <p:cNvSpPr/>
              <p:nvPr/>
            </p:nvSpPr>
            <p:spPr>
              <a:xfrm>
                <a:off x="4394880" y="4964040"/>
                <a:ext cx="101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NA polymerase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ound to promot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21"/>
              <p:cNvSpPr/>
              <p:nvPr/>
            </p:nvSpPr>
            <p:spPr>
              <a:xfrm>
                <a:off x="4357800" y="4957920"/>
                <a:ext cx="93600" cy="8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22"/>
              <p:cNvSpPr/>
              <p:nvPr/>
            </p:nvSpPr>
            <p:spPr>
              <a:xfrm>
                <a:off x="4086360" y="580860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active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press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23"/>
              <p:cNvSpPr/>
              <p:nvPr/>
            </p:nvSpPr>
            <p:spPr>
              <a:xfrm>
                <a:off x="5066280" y="5857920"/>
                <a:ext cx="1559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zymes for lactose utiliz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24"/>
              <p:cNvSpPr/>
              <p:nvPr/>
            </p:nvSpPr>
            <p:spPr>
              <a:xfrm>
                <a:off x="5008320" y="297180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PER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25"/>
              <p:cNvSpPr/>
              <p:nvPr/>
            </p:nvSpPr>
            <p:spPr>
              <a:xfrm>
                <a:off x="1709640" y="4429080"/>
                <a:ext cx="1803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Operon turned off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(lactose absent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26"/>
              <p:cNvSpPr/>
              <p:nvPr/>
            </p:nvSpPr>
            <p:spPr>
              <a:xfrm>
                <a:off x="1712520" y="6173640"/>
                <a:ext cx="2436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Operon turned 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(lactose inactivates repressor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27"/>
              <p:cNvSpPr/>
              <p:nvPr/>
            </p:nvSpPr>
            <p:spPr>
              <a:xfrm>
                <a:off x="3438000" y="3112920"/>
                <a:ext cx="672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gulatory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en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AutoShape 28"/>
              <p:cNvSpPr/>
              <p:nvPr/>
            </p:nvSpPr>
            <p:spPr>
              <a:xfrm rot="16200000">
                <a:off x="5236920" y="2136240"/>
                <a:ext cx="74520" cy="2116080"/>
              </a:xfrm>
              <a:custGeom>
                <a:avLst/>
                <a:gdLst>
                  <a:gd name="textAreaLeft" fmla="*/ 0 w 74520"/>
                  <a:gd name="textAreaRight" fmla="*/ 27000 w 74520"/>
                  <a:gd name="textAreaTop" fmla="*/ 11160 h 2116080"/>
                  <a:gd name="textAreaBottom" fmla="*/ 2104920 h 211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88"/>
                      <a:pt x="10800" y="375"/>
                    </a:cubicBezTo>
                    <a:lnTo>
                      <a:pt x="10800" y="10425"/>
                    </a:lnTo>
                    <a:cubicBezTo>
                      <a:pt x="10800" y="10613"/>
                      <a:pt x="16200" y="10800"/>
                      <a:pt x="21600" y="10800"/>
                    </a:cubicBezTo>
                    <a:cubicBezTo>
                      <a:pt x="16200" y="10800"/>
                      <a:pt x="10800" y="10988"/>
                      <a:pt x="10800" y="11175"/>
                    </a:cubicBezTo>
                    <a:lnTo>
                      <a:pt x="10800" y="21225"/>
                    </a:lnTo>
                    <a:cubicBezTo>
                      <a:pt x="10800" y="21413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 Box 30"/>
            <p:cNvSpPr/>
            <p:nvPr/>
          </p:nvSpPr>
          <p:spPr>
            <a:xfrm>
              <a:off x="355680" y="61387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1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Other Kinds of Oper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3480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tr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per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814400" indent="-53316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s similar to the </a:t>
            </a:r>
            <a:r>
              <a:rPr b="0" i="1" lang="en-US" sz="2100" spc="-1" strike="noStrike">
                <a:solidFill>
                  <a:srgbClr val="000000"/>
                </a:solidFill>
                <a:latin typeface="Constantia"/>
              </a:rPr>
              <a:t>lac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operon, but functions somewhat differentl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23"/>
          <p:cNvGrpSpPr/>
          <p:nvPr/>
        </p:nvGrpSpPr>
        <p:grpSpPr>
          <a:xfrm>
            <a:off x="1070280" y="3456000"/>
            <a:ext cx="7041960" cy="2895840"/>
            <a:chOff x="1070280" y="3456000"/>
            <a:chExt cx="7041960" cy="2895840"/>
          </a:xfrm>
        </p:grpSpPr>
        <p:grpSp>
          <p:nvGrpSpPr>
            <p:cNvPr id="257" name="Group 21"/>
            <p:cNvGrpSpPr/>
            <p:nvPr/>
          </p:nvGrpSpPr>
          <p:grpSpPr>
            <a:xfrm>
              <a:off x="2136600" y="3456000"/>
              <a:ext cx="5975640" cy="2895840"/>
              <a:chOff x="2136600" y="3456000"/>
              <a:chExt cx="5975640" cy="2895840"/>
            </a:xfrm>
          </p:grpSpPr>
          <p:pic>
            <p:nvPicPr>
              <p:cNvPr id="258" name="Picture 6" descr="_x000c_11_01c_U.jpg                                                   00019A44&#10;Abhinav 11                     BE0A27B8:"/>
              <p:cNvPicPr/>
              <p:nvPr/>
            </p:nvPicPr>
            <p:blipFill>
              <a:blip r:embed="rId1"/>
              <a:stretch/>
            </p:blipFill>
            <p:spPr>
              <a:xfrm>
                <a:off x="2506680" y="3549600"/>
                <a:ext cx="5605560" cy="250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Rectangle 7"/>
              <p:cNvSpPr/>
              <p:nvPr/>
            </p:nvSpPr>
            <p:spPr>
              <a:xfrm>
                <a:off x="2616120" y="3456000"/>
                <a:ext cx="89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103176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mot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8"/>
              <p:cNvSpPr/>
              <p:nvPr/>
            </p:nvSpPr>
            <p:spPr>
              <a:xfrm>
                <a:off x="2136600" y="3786120"/>
                <a:ext cx="50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9"/>
              <p:cNvSpPr/>
              <p:nvPr/>
            </p:nvSpPr>
            <p:spPr>
              <a:xfrm>
                <a:off x="2643120" y="4200480"/>
                <a:ext cx="825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tiv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press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10"/>
              <p:cNvSpPr/>
              <p:nvPr/>
            </p:nvSpPr>
            <p:spPr>
              <a:xfrm>
                <a:off x="2571840" y="5307120"/>
                <a:ext cx="825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activ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press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11"/>
              <p:cNvSpPr/>
              <p:nvPr/>
            </p:nvSpPr>
            <p:spPr>
              <a:xfrm>
                <a:off x="4136760" y="5742000"/>
                <a:ext cx="717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cto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12"/>
              <p:cNvSpPr/>
              <p:nvPr/>
            </p:nvSpPr>
            <p:spPr>
              <a:xfrm>
                <a:off x="3917880" y="5519880"/>
                <a:ext cx="263520" cy="36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13"/>
              <p:cNvSpPr/>
              <p:nvPr/>
            </p:nvSpPr>
            <p:spPr>
              <a:xfrm>
                <a:off x="5621400" y="4229280"/>
                <a:ext cx="825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tiv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press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14"/>
              <p:cNvSpPr/>
              <p:nvPr/>
            </p:nvSpPr>
            <p:spPr>
              <a:xfrm>
                <a:off x="7142760" y="4627440"/>
                <a:ext cx="955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yptoph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15"/>
              <p:cNvSpPr/>
              <p:nvPr/>
            </p:nvSpPr>
            <p:spPr>
              <a:xfrm>
                <a:off x="6878880" y="4349880"/>
                <a:ext cx="29988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16"/>
              <p:cNvSpPr/>
              <p:nvPr/>
            </p:nvSpPr>
            <p:spPr>
              <a:xfrm>
                <a:off x="5410440" y="5221440"/>
                <a:ext cx="825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activ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press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7"/>
              <p:cNvSpPr/>
              <p:nvPr/>
            </p:nvSpPr>
            <p:spPr>
              <a:xfrm>
                <a:off x="3309480" y="6060960"/>
                <a:ext cx="95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lac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per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18"/>
              <p:cNvSpPr/>
              <p:nvPr/>
            </p:nvSpPr>
            <p:spPr>
              <a:xfrm>
                <a:off x="6319080" y="6075360"/>
                <a:ext cx="94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trp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per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19"/>
              <p:cNvSpPr/>
              <p:nvPr/>
            </p:nvSpPr>
            <p:spPr>
              <a:xfrm>
                <a:off x="3459240" y="3456000"/>
                <a:ext cx="83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103176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perat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20"/>
              <p:cNvSpPr/>
              <p:nvPr/>
            </p:nvSpPr>
            <p:spPr>
              <a:xfrm>
                <a:off x="4602240" y="3463920"/>
                <a:ext cx="731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103176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n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22"/>
            <p:cNvSpPr/>
            <p:nvPr/>
          </p:nvSpPr>
          <p:spPr>
            <a:xfrm>
              <a:off x="1070280" y="60278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1.1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985320" y="685800"/>
            <a:ext cx="785340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2 Differentiation yields a variety of cell types, each expressing a different combination of ge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32472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at does the term differentiation mean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32472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ecome specialized in structure and func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32472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multicellular eukary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324720">
              <a:spcBef>
                <a:spcPts val="524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ells become specialized as a zygote develops into a mature organis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53548a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Tracey Hayden</cp:lastModifiedBy>
  <cp:lastPrinted>2005-03-24T12:52:04Z</cp:lastPrinted>
  <dcterms:modified xsi:type="dcterms:W3CDTF">2011-02-20T20:10:00Z</dcterms:modified>
  <cp:revision>547</cp:revision>
  <dc:subject/>
  <dc:title>Slide 1</dc:title>
</cp:coreProperties>
</file>